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CCC-165D-40A9-BD72-F380089A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5C3-A6B9-4CAB-8A13-5D9D754A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8E6-A98F-4296-86F5-A63589DB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79E-E91B-4247-9A16-DD91C1B7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018-89DD-4150-AD47-C4B1CB7C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B09-DDC2-443D-A85C-8E3E249F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65C-1299-4EAC-A8D9-3356F5FF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FE7-5FC6-4BC3-9482-AEE6B871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1E7-106B-4DB0-8DEB-DB74A4BE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AF1-D358-46BA-B265-D241B7EA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19A-E12B-48A7-B650-47D4A06A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BA0-75BF-45FC-AFF4-FE08865F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9109-1991-4D11-A1C9-CDDAD92F56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320 Twabotelwa</a:t>
            </a:r>
            <a:br>
              <a:rPr sz="40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Tune: O Happy 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1989000"/>
            <a:ext cx="7705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abotelwa, twabotel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zuba bwasunu, 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kasala muzyalwa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bbapatizigwa sun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kondwa, kulu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buli bangelo 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Zyoonse zibumbwa 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ba-Kristo ansi aa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lumba, bakond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balubi lufutu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eza Taata, Jesu 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a-Muuya Uusalali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bulemu bwa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zyalwama uyoonji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kondwa, kulu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buli bangelo 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Zyoonse zibumbwa 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ba-Kristo ansi aa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lumba, bakond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balubi lufutu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jatisye, lyoonse l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ngaime Jesu 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tubwene abalab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bbapatizigwe 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kondwa, kulu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buli bangelo 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Zyoonse zibumbwa 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ba-Kristo ansi aa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lumba, bakond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balubi lufutu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57:36Z</dcterms:created>
  <dc:creator>Jonah</dc:creator>
  <dc:description/>
  <dc:language>en-US</dc:language>
  <cp:lastModifiedBy>admin</cp:lastModifiedBy>
  <dcterms:modified xsi:type="dcterms:W3CDTF">2017-07-24T18:30:17Z</dcterms:modified>
  <cp:revision>3</cp:revision>
  <dc:subject/>
  <dc:title>320 Twabotelwa Tune: O Happy Day</dc:title>
</cp:coreProperties>
</file>