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947-F8CF-44F9-8EBE-86EAA983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835-99A6-4E66-A765-951D269C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7CC-135E-42CE-9C42-94D357EA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33A-06F3-48C0-A862-A77E63EE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64D-45CE-4761-B04F-6CE8D556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D0D-6838-4689-96EA-DBEC12E6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05D-E2FE-4C1D-A5BC-E8CC5034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AAA-8FA2-43BF-934A-898F183E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898-B970-4B98-B427-DC75C1C0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F9B-3383-4204-AE1E-27756C9C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107-4821-4164-9EC9-31BA230C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E13-4C06-47B5-A545-75D89792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C115-8310-4A85-A47B-14961140D81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07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botelwa mumulim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-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botelwa, ndabotel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jisi kutangala kwa-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mulimo wa-Mwa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19 MUMULIMO WA-MWAMI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In the service of the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mulimo wa-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Zipego zyangu, ndaleta ndijisi cilongezy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mulimo wa-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botelwa mumulim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-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botelwa, ndabotel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aa kuumu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aa mapenzi ndai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mulimo wa-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mulimo wa-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Zipego zyangu, ndaleta ndijisi cilongezy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mulimo wa-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botelwa mumulim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-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botelwa, ndabotel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jatilila ijanza ly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mulimo wa-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mulimo wa-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Zipego zyangu, ndaleta ndijisi cilongezy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mulimo wa-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botelwa mumulim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-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botelwa, ndabotel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intu zyangu ndazipa kulingu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mulimo wa-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mulimo wa-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Zipego zyangu, ndaleta ndijisi cilongezy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mulimo wa-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7:10:10Z</dcterms:created>
  <dc:creator>Jonah</dc:creator>
  <dc:description/>
  <dc:language>en-US</dc:language>
  <cp:lastModifiedBy>ADMIN</cp:lastModifiedBy>
  <dcterms:modified xsi:type="dcterms:W3CDTF">2015-12-09T10:14:24Z</dcterms:modified>
  <cp:revision>4</cp:revision>
  <dc:subject/>
  <dc:title>219. MUMULIMO WA-MWAMI Tune: In the service of the King</dc:title>
</cp:coreProperties>
</file>