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EC2-4254-4E84-B80F-5EAEC2B2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817-7C1E-4913-956A-271B64AD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5D1-EEB8-4828-BD36-E3356733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51E-CB3F-40D0-9970-95289CE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A6D-BD06-43ED-893E-9ED4E1A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68C-22D2-45BC-8FE9-7E40CD2B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3C5-C7BC-42E5-AE83-5DDC756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DE0-3417-4DFD-A1A3-6EC9B30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002-9008-4490-AC57-766DCC2D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AF7-620A-4246-981B-A2D59F8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BBD-B140-4688-89CD-FE5377C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521-669E-47F2-81AC-810C7FA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A5EC-0256-4949-B8B4-4FFE6B342B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81 Mufutuli ndamuyanda</a:t>
            </a:r>
            <a:br>
              <a:rPr sz="4400"/>
            </a:b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Tune: I love my S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207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guwakandivun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gwisya mulu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pa buumi bw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wakandijati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tilila 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iya mulandu w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guwakandisala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manya zibi zy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milandu yangu 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wandimuniki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bbanuna meso aang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kundeetela mum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nguundisindiki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jwi lyakwe ngomumun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umunika nzila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ambo wandigwasya lyoons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inzyungulukwa mafwa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njumya mumulim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ngamaulu aang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zunda nkondo z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oyo wangu ulakond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futuli ndam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ambule moyo wang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dipe inguzu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nkamubeleke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5:27:46Z</dcterms:created>
  <dc:creator>Jonah</dc:creator>
  <dc:description/>
  <dc:language>en-US</dc:language>
  <cp:lastModifiedBy>ADMIN</cp:lastModifiedBy>
  <dcterms:modified xsi:type="dcterms:W3CDTF">2015-12-08T11:41:31Z</dcterms:modified>
  <cp:revision>5</cp:revision>
  <dc:subject/>
  <dc:title>181 Mufutuli ndamuyanda Tune: I love my Saviour</dc:title>
</cp:coreProperties>
</file>