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3AA-6C28-4EB5-BA57-D3B536E0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DF9-B424-43AA-BF25-2A2B247D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FDF-EF6E-424F-B71C-CECA8D49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B3C-ED9A-489D-925F-FC4EF946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AAD-0D78-4618-A42C-F9FFCCF9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03F-9E1E-410E-B9B8-40A21121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21A-41FD-4788-AAE5-F25B0FFF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91A-A80C-4C1F-B6E3-33B9378F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CFD-DD0E-4D62-9DC8-1EB51F67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B9B-DA47-42AA-92B9-34919B04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D5E-C2BA-474C-8E41-588E78B9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DEB-9984-4CF6-8F01-E69EEE56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2BFC-3A84-4175-8240-FDB47252F1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13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swaangana munzila ya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aama kumaanza atama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bondalelekwa, mbondaumu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aama kumaanza atama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65 YAMA KUMANZA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What a fellowsh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Yaama, yaam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Yaama kumaanza atama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Yaama, yaam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maanza tuvunigwe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ubotu buti mulweendo oo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aama kumaanza atama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atuba nzila mazuba 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aama kumaanza atama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Yaama, yaam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Yaama kumaanza atama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Yaama, yaam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maanza tuvunigwe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jowenzi sena, ntijenzi se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jeeme kumaanza atama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kuumuna nkaamb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jeeme kumaanza atama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Yaama, yaama, yaama kumaanza atama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Yaama, yaama, kumaanza tuvunigwe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21:36:44Z</dcterms:created>
  <dc:creator>Jonah</dc:creator>
  <dc:description/>
  <dc:language>en-US</dc:language>
  <cp:lastModifiedBy>ADMIN</cp:lastModifiedBy>
  <dcterms:modified xsi:type="dcterms:W3CDTF">2015-12-10T14:21:51Z</dcterms:modified>
  <cp:revision>3</cp:revision>
  <dc:subject/>
  <dc:title>265 YAMA KUMANZA Tune: What a fellowship</dc:title>
</cp:coreProperties>
</file>