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E1A-240C-4F94-924C-55B4E123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762-3E73-4014-AB3C-B966A15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EB3-805A-4F24-A956-9789C250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4CD-ECB3-4924-A4E1-C9EF3E43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6D3-32E0-455B-A632-F2C5551A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D96-68A4-45EE-96F9-911DC1C5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202-4C31-4982-A955-D33D19F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0DE-A8B7-4615-B79E-2539695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FAF-762F-436D-B0CC-EDCB27C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336-538E-4AE8-AF97-DCDE7A0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BEB-8131-4A40-B6BD-E192B41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D36-3EF5-4D7A-B5AA-4EB2C1D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ED9-9BB5-4846-BB87-A8DBDD9DF3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54936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14. MWAMBILE JESU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Tune: Are you we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tazigwa mumoyo sena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katazigwa mumoyo sena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 alik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bile Jesu, Mw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enzuma ngotwazib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kwe mweenzinyoko mbuli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 alik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lila misozi nopeng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sisilaanzi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bi mumoyo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 alik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enzuma ngotwazib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kwe mweenzinyoko mbuli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 alik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yoowa kupenga mumoyo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yanda kuziba izibool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 alik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enzuma ngotwazib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akwe mweenzinyoko mbuli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ambile Jesu alik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penzegwa noyeeya lufu; 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lalila bulelo bubool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waambile Jesu alikk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bile Jesu, Mwambile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eenzuma ngotwaziba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akwe mweenzinyoko mbuli Jesu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wambile Jesu a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8:38:11Z</dcterms:created>
  <dc:creator>Jonah</dc:creator>
  <dc:description/>
  <dc:language>en-US</dc:language>
  <cp:lastModifiedBy>ADMIN</cp:lastModifiedBy>
  <dcterms:modified xsi:type="dcterms:W3CDTF">2015-12-04T13:09:21Z</dcterms:modified>
  <cp:revision>4</cp:revision>
  <dc:subject/>
  <dc:title>PowerPoint Presentation</dc:title>
</cp:coreProperties>
</file>