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F79-99F1-46E2-9148-1DA51325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034-FA43-4985-8E0E-5775B78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7D9-BE7B-4C91-9A78-D2DF3A34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3D0-2472-4ECC-80B0-825D2F49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A46-E168-48DE-9DFB-AF11EFC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3D4-A287-4AF1-BBA9-219D7F7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1CD-6073-4592-A0B4-B554491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9A4-A933-496A-B5E1-C2764DB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264-4282-425A-A167-2ECC713F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8F7-26B7-487E-BC0F-6DF00DC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AFA-1632-4E16-86D5-0E0305D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40B-CE5B-4A86-AD98-51639C6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024-EB60-4082-A0F3-49F488AD78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2420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cilijisi cool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cendili kulinguwe,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lijisi lubata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zwa ku-Mufutu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3 NDILAMUYANDA A MUVUNI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Silver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kaambo ngo-Munun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 a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endili ndakankam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bona luse l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lupegwa kulindi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lundipa luumu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kaambo ngo-Munun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 a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tuubwene ka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nguwe wabom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kubaboobo nci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yoopona a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kaambo ngo-Munun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 a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lwe eeci acikka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iye kuli-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jane bupono b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imuzibisis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muyanda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kaambo ngo-Munun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 awal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8:02:49Z</dcterms:created>
  <dc:creator>Jonah</dc:creator>
  <dc:description/>
  <dc:language>en-US</dc:language>
  <cp:lastModifiedBy>Jonah</cp:lastModifiedBy>
  <dcterms:modified xsi:type="dcterms:W3CDTF">2015-02-14T18:19:39Z</dcterms:modified>
  <cp:revision>2</cp:revision>
  <dc:subject/>
  <dc:title>223. NDILAMUYANDA A MUVUNI Tune: Silver threads</dc:title>
</cp:coreProperties>
</file>