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FD2-97FE-4B7B-B7A7-0D3581B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FFC-36BB-41A7-A98C-100EDDC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300-E86C-45FA-B720-A79FE020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6A9-940F-4CBE-9641-284AE458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1F5-2A33-4CE7-9013-B1B64F96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C67-CA33-438E-94EF-16CBEBE2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E8A-6FCE-4702-A2EB-4D77E39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53B-9436-400C-98B9-B7F3EBB3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EE2-A2BC-4B81-B61D-45C644C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C5D-E4FB-4E20-AA1F-E7F4D10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9EF-AE4A-4376-8936-71632BE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3CD-E9B4-402B-BA7C-EE0462F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C60C-1DFB-4D59-B1CE-4F62317DC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zyalwa  # 64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e Son of God is Bo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zyal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muno Munyika; Abalo bangelo boonse mujulu balibunga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bon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sil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tum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wana a-Leza watufw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uya wa-Leza was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6:28:06Z</dcterms:created>
  <dc:creator>Guest</dc:creator>
  <dc:description/>
  <dc:language>en-US</dc:language>
  <cp:lastModifiedBy>ADMIN</cp:lastModifiedBy>
  <dcterms:modified xsi:type="dcterms:W3CDTF">2015-12-16T13:14:54Z</dcterms:modified>
  <cp:revision>4</cp:revision>
  <dc:subject/>
  <dc:title>Mwana a-Leza Wazyalwa - #60 The Son of God is Born</dc:title>
</cp:coreProperties>
</file>