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A0A-BC9D-4276-903B-A79B099D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8E1-B659-4DEF-B022-3F16CDCE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B55-73E7-4B29-98BA-BA7D3B27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05E-D266-4507-ADF7-EA7ED9BE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437-31D9-4EE9-BB3D-5C8C783E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411-B104-47BB-9452-B556605C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F16-FABA-4385-B7FC-3A68B894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339-580D-41CF-A739-44782966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5A1-5EFE-414D-822F-DFCAFD0C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581-E0E2-48CE-80E6-0E33609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9B6-78A8-4E1E-A927-5A37376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E7C-6C2C-4743-8975-FF507F0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2CC-FEDC-4657-8448-2655F06927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284 Amuye Ba-Kristo</a:t>
            </a:r>
            <a:br>
              <a:rPr sz="2900"/>
            </a:br>
            <a:r>
              <a:rPr b="1" i="1" lang="en-GB" sz="2900" spc="-1" strike="noStrike">
                <a:solidFill>
                  <a:srgbClr val="ff0000"/>
                </a:solidFill>
                <a:latin typeface="Calibri"/>
              </a:rPr>
              <a:t>Tune: Onward Christian Soldi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ye ba-Kristo, amuye kun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lasolwedelwa ciingano c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wesu lw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utuzulwida s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ye, mukako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tuyumya s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ba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kun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asolwed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gano c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ba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kun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asolwed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gano c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sinkondo besu balayoowa l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ye ba-Kristo muyoozunda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bila-bila kuzikombyo zy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yumye nyim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wiimbisye t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ba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kun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asolwed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gano c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aba mbuli pa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aba imbungan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tobela nzila yabo basala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pambuk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amba cintu com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kukomba Leza amuluyanda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ba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kun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asolwed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gano c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oomwaisig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nse bwami bwaans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imbungano inooyoociliw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wami bwa-Saata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yoozundwa l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jwi aakwe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waambila oob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ba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muye kun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Mulasolwedel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Ciingano c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amuya mbuboo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weendesye t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wiimbo lwakuzu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wiimbe ca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mulemeke K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obaimba ly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ntu abange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11:51:11Z</dcterms:created>
  <dc:creator>Jonah</dc:creator>
  <dc:description/>
  <dc:language>en-US</dc:language>
  <cp:lastModifiedBy>ADMIN</cp:lastModifiedBy>
  <dcterms:modified xsi:type="dcterms:W3CDTF">2015-12-11T10:29:13Z</dcterms:modified>
  <cp:revision>7</cp:revision>
  <dc:subject/>
  <dc:title>284 Amuye Ba-Kristo Tune: Onward Christian Soldiers</dc:title>
</cp:coreProperties>
</file>