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42B-ADA0-4E7F-8487-1A914B47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7DC-44BD-41CB-9EA7-0508BB9D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83F-AB2F-4921-9D61-AA9DEA5E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4674-97F3-4A8F-849B-111765C2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C259-9F6C-4F6F-A4AA-DAD4BD88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81F-5A94-4801-8EDC-F168DAE7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571-4E10-45C1-BD61-35553378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D2F-E874-466B-AE8A-1590E6C2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566-5E5B-4BDB-BF08-83EE5B64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9B98-14C4-484F-9635-DC639EE2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6CF-D5E5-4F80-A31A-F6A4C985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331D-72B7-470F-8F12-C4CFA94E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7EDC-B0E5-4EC6-8D54-21A1CACD4D8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234900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undiita ngooyu Jesu, (x3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laboola, boola eno-en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uya wakwe wandikwela, (x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laboola, boola eno-en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43. NDILABOOLA ENEENO</a:t>
            </a:r>
            <a:br>
              <a:rPr sz="4000"/>
            </a:b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Tune: Where he leads I will follo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kukomba ndilakomba, (x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laboola, boola eno-e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zumina Ndazumina, (x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laboola, boola eno-en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ozisanzya zibi zyangu, (x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laboola, boola eno-e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54936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mi Jesu ndijatila, (x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laboola, boola eno-en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kusyoma ndilashoma, (x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laboola, boola eno-e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esu kondisindikila, (x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ilaboola, boola eno-en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1:57:14Z</dcterms:created>
  <dc:creator>Jonah</dc:creator>
  <dc:description/>
  <dc:language>en-US</dc:language>
  <cp:lastModifiedBy>ADMIN</cp:lastModifiedBy>
  <dcterms:modified xsi:type="dcterms:W3CDTF">2015-12-07T12:54:33Z</dcterms:modified>
  <cp:revision>4</cp:revision>
  <dc:subject/>
  <dc:title>143. NDILABOOLA ENEENO Tune: Where he leads I will follow</dc:title>
</cp:coreProperties>
</file>