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FB7-38FB-4F67-A67E-B3382491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1A0-B117-40CE-8494-22C2C79C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AF1-CF7D-4420-906E-46491D47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0A5-EBAB-46C1-A4C9-C69E0A85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88E-6DDA-4BD0-A180-727051C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0AD-2111-4285-BDE7-29EF7AA2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A6A-CADC-4B5E-87F0-A9A1BBD2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010-4E7E-4E88-BC64-5C5BCC37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490-980D-4A94-9EE9-8344A9F0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C87-3004-48BD-985A-D4ED7926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923-1FA2-4D79-A448-C42E5FA1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1C5-FB9C-4633-9167-34EE237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0F89-64CB-4772-AE0E-6E6984285A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280" y="2492280"/>
            <a:ext cx="7993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imba lwaano lugamb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bwaakandifwida Muv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bwaakalinyanzya bulem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bwaakasika ansi aa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 NDAIMBA LWAANO LUGAMBYA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The wondrous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 ndaimba lwaano ol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mbwaakafwida a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ooimba a bafutuki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usyu bwakwe 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 ndaimba lwaano ol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mbwaakafwida a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ooimba abafutuki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usyu bwakwe 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kakozya imbelel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kasweekede buy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lo wakandilanga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ndiboozya munzi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 ndaimba lwaano ol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mbwaakafwida a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ooimba a bafutuki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usyu bwakwe 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wizuka wandile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fwa nyota wanyw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zunga wandizulwi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fwaba wandivu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 ndaimba lwaano ol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mbwaakafwida a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ooimba a bafutuki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usyu bwakwe 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andeenzya nzila zyoonse, Ndamusyoma moyo w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cisikilwa mapenz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le tuli aw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 ndaimba lwaano ol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mbwaakafwida am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ooimba a bafutuki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usyu bwakwe Lez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yakundikwabil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e ndisike kuluf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elyo uyoonditamb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julu a-Bakrist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6:06:07Z</dcterms:created>
  <dc:creator>Jonah</dc:creator>
  <dc:description/>
  <dc:language>en-US</dc:language>
  <cp:lastModifiedBy>ADMIN</cp:lastModifiedBy>
  <dcterms:modified xsi:type="dcterms:W3CDTF">2015-12-08T14:30:16Z</dcterms:modified>
  <cp:revision>4</cp:revision>
  <dc:subject/>
  <dc:title>197. NDAIMBA LWAANO LUGAMBYA Tune: The wondrous story</dc:title>
</cp:coreProperties>
</file>