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1E59-D161-4E8B-BA40-C5FC08A9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325-D57A-4481-8229-A0308ABB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C4E-D548-4868-A2E2-823E344A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157-EBAD-4E18-BF86-7B22D299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353-0F6C-44C3-A74F-ACD3D8B1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664-CC47-448F-9601-D58358C6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71E-1BD0-48E7-95D8-B831859F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A7E-DEA9-482B-AD6F-BCF86174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5EA-33CD-4C82-8516-C1739C5C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07A-853D-4ABF-85F9-45AA3C15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124-D168-40B3-9D89-9824D3FA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4D7-0224-431C-96D6-DDB903BD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F048-DAEB-4623-9615-52743AAFA19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180 Mbweyanda Jesu</a:t>
            </a:r>
            <a:br>
              <a:rPr sz="3600"/>
            </a:b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Tune: Oh how I love Jes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2565360"/>
            <a:ext cx="7632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1. Mbweyanda Jesu  (x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lo wandiyand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2. Wazyalwa ansi (x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lo wandiyand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3. Wanyika mumaanzi (x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lo wandiyand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4. Waponya balwazi, (x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lo wandiyand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5. Waenda muminzi, (x3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Walo wandiyanda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6. Wandipengela, (x3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Walo wandiyanda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7. Wafwa acisamu, (x3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Walo wandiyanda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8. Wabuka alimwi, (x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lo wandiyand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9. Waunka kujulu (x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lo wandiyand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5:18:10Z</dcterms:created>
  <dc:creator>Jonah</dc:creator>
  <dc:description/>
  <dc:language>en-US</dc:language>
  <cp:lastModifiedBy>Jonah</cp:lastModifiedBy>
  <dcterms:modified xsi:type="dcterms:W3CDTF">2015-02-14T15:27:43Z</dcterms:modified>
  <cp:revision>1</cp:revision>
  <dc:subject/>
  <dc:title>180 Mbweyanda Jesu Tune: Oh how I love Jesus</dc:title>
</cp:coreProperties>
</file>