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A97-91BE-4A5F-A6ED-4CAD489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190-83F4-4593-BFE0-C067986D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808-25E5-4934-B488-775448CD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619-EB3D-4126-B813-F57704EC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421-5629-431B-9753-DC13A2E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7E2-DA18-4464-86B7-80879E9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93B-3399-4E80-875D-4F3EC28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AC4-FCAC-4AD8-8C23-19488D0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62B-85C7-402C-89E0-E337EA3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F89-4EEA-46E0-B6BF-F77ECAC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AC6-12D7-4216-AF78-5D607F77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478-202E-4B16-BFB0-CFED83F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6C2-F54F-47E6-8E37-81478354A3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03 Nkamuzibe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I shall know H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561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mana milimo y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oonse munyika ee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jakusamikwa mubili uutaf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lyo njakumuzi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ka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akundicinga cakukko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 nkamuz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jakwiima munsi lyakwe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nkamuzi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inembo mumaanza 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 kukkomana abusy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kwe bwakuum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eso aakwe alaa luse lunj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 kumulumbaiz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yandis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ndibambila ng’anda yabwam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 nkamuz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jakwiima munsi lyakwe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nkamuzi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inembo mumaanza 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andika b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kaandaana kain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buumi bubo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-Mwami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kaandaa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abanda aa-Ede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ntaangune mbone Mufutu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 nkamuz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jakwiima munsi lyakwe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nkamuzi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inembo mumaanza 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01124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njile mumunz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esamine zituba bu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andinjizye mutalili 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wiimbo olutamani ndiy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mba amba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ntaangune mbone Mufutu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 nkamuz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jakwiima munsi lyakwe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muzibe, nkamuzi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inembo mumaanza 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9:21:33Z</dcterms:created>
  <dc:creator>Jonah</dc:creator>
  <dc:description/>
  <dc:language>en-US</dc:language>
  <cp:lastModifiedBy>Jonah</cp:lastModifiedBy>
  <dcterms:modified xsi:type="dcterms:W3CDTF">2015-02-18T10:02:21Z</dcterms:modified>
  <cp:revision>3</cp:revision>
  <dc:subject/>
  <dc:title>303 Nkamuzibe Tune: I shall know Him</dc:title>
</cp:coreProperties>
</file>