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0D8-3876-4CA9-9A43-91D4FFA9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DCB-74DA-4E17-A91E-CE7AB5DE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7B5-8D87-4736-848D-5B180216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2FD-1BF7-4C48-95D5-1610D85C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AB6-D9C6-4CCE-83C1-3E727989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A68-22C0-48DF-A2D8-ED819411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ADB-3D3C-4658-AFEE-3BE73C5A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576-E8B5-4BA9-AAB2-35FA2846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AB3-2C3A-4BCA-9AF1-08319387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C6B-3881-4E48-876A-8BB35A7D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5D2-D626-4405-9206-F5BAF0D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2EA-470E-4D5A-86A6-9C76B3A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1A45-5211-46E2-8E7A-C5E52BD44B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270792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wani ulalindila? Ulasika afwiifw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yanda kunjil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swiilila ngwan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47. NGWANI ULALINDILA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Who at the door is standi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jwi a-Jesu alaamb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julila mebo. Kuti undiswiilile, Ndilakkala ayebo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yoonse mumudim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penga lo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ola ku-Mwami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kulindil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jwi a-Jesu alaamb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julila mebo. Kuti undiswiilile, Ndilakkala ayebo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jula moyo wangu, Ndifwambaane lok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 ulandiita, ulindila ndi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jwi a-Jesu alaamb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julila mebo. Kuti undiswiilile, Ndilakkala ayebo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3:05:34Z</dcterms:created>
  <dc:creator>Jonah</dc:creator>
  <dc:description/>
  <dc:language>en-US</dc:language>
  <cp:lastModifiedBy>ADMIN</cp:lastModifiedBy>
  <dcterms:modified xsi:type="dcterms:W3CDTF">2015-12-07T13:32:29Z</dcterms:modified>
  <cp:revision>3</cp:revision>
  <dc:subject/>
  <dc:title>147. NGWANI ULALINDILA Tune: Who at the door is standing?</dc:title>
</cp:coreProperties>
</file>