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276-BF03-42F5-B5BB-5AA38932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B77-341D-431E-8DD4-4CEB623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06D-B46E-402D-8E65-FD8874B4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1E2-721C-4F8D-B7F6-B784B18E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0DD-0AF6-4972-8059-4F2CD946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E46-F1ED-466C-909A-8F5EDBE6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43A-0EA3-48F1-986E-7CAB6E36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75A-7E0A-46B9-84B6-C1C8B76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FA7-C9CA-41C1-AEF5-67C49FC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41E-76E2-458D-A490-FA9C2EF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7B0-D3F2-4160-8A8C-7F4A291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9D0-B90B-47D8-A55F-84E103F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3137-8763-4BB1-BA63-5B819FE17D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294 Lyoonse Lyoon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77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yoonse, lyoonse tumwiimbi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julu nkwali Lez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ayakide munzi 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usalala wabu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i ndabaamababa li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uluka; njinke oo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langaule manjil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julu ku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matwi asinku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swiilila lwiimbo lwab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meso apwat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eebela munzi uul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i ndabaamababa li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uluka; njinke oo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langaule manjil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julu ku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i ndabaamababa li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uluka; njinke oo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langaule manjil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julu ku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eyo nyika njiya-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kkede acuuno cak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gelo bamuko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gelo Mwami wab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i ndabaamababa li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uluka; njinke oo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langaule manjil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julu ku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 lwizi lupa buu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zwa kucuuno cak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 maani amal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abota koonse k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i ndabaamababa li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uluka; njinke oo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langaule manjil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julu ku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asamu aful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akwe naayuma p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yuunda ilazya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akwe nzala, nceyo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ti ndabaamababa li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auluka; njinke ook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langaule manjil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kujulu ku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bangelo b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baumi bakavun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yoonse lyoonse balai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tembaula Mwami wab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7:26:21Z</dcterms:created>
  <dc:creator>Jonah</dc:creator>
  <dc:description/>
  <dc:language>en-US</dc:language>
  <cp:lastModifiedBy>ADMIN</cp:lastModifiedBy>
  <dcterms:modified xsi:type="dcterms:W3CDTF">2015-12-11T12:30:49Z</dcterms:modified>
  <cp:revision>6</cp:revision>
  <dc:subject/>
  <dc:title>294 Lyoonse Lyoonse</dc:title>
</cp:coreProperties>
</file>