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B88-9E03-47C9-81F8-B9366500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0DC-1652-44F3-9679-6275622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FFE-A97A-4F93-94BE-B47C6541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5D5-4364-41AA-9642-14BE1337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24B-64D2-4B35-B467-A9095D7E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8F0-13CD-4E51-84B8-351005DB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BF6-1A2D-4A28-85A7-0D2A9B4A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878-4FBD-460C-8F8B-5D934651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70E-2940-48E2-AF46-9CA4EB9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D0E-0C75-4B5C-B3C1-919DBAC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357-ABE4-467E-9791-C0912E37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230-1024-44A4-BA9A-EFC1FFA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DD7-D0CE-4651-B65F-B9222C35C0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a zibi zinji zinj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indipenzya ly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yanda Mufutul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futula bo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Yebo Jesu, yebo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we Mufutuli wangu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5. NDILAA ZIBI ZINJI ZINJI</a:t>
            </a:r>
            <a:br>
              <a:rPr sz="4000"/>
            </a:b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Tune: Saviour, like a shephe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ndiyanda ndemubi, Watufwida t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we wakandilungil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mulandu w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Yebo Jesu, yebo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we Mufutuli wangu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907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lulami nsibujis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usweyi b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wena Jesu undisanzy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nzya moyo w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Yebo Jesu, yebo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we Mufutuli wangu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, lino ndili wak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ondienzya lyoon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pa nguzu nkucilil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unzila m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Yebo Jesu, yebo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we Mufutuli wangu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ko kuli nduwe, Mwami, Tuyookkala lyoonse, Tunolumbaizya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maindi 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||Yebo Jesu, yebo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uwe Mufutuli wangu.|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2:31:04Z</dcterms:created>
  <dc:creator>Jonah</dc:creator>
  <dc:description/>
  <dc:language>en-US</dc:language>
  <cp:lastModifiedBy>ADMIN</cp:lastModifiedBy>
  <dcterms:modified xsi:type="dcterms:W3CDTF">2015-12-07T13:18:23Z</dcterms:modified>
  <cp:revision>4</cp:revision>
  <dc:subject/>
  <dc:title>145. NDILAA ZIBI ZINJI ZINJI Tune: Saviour, like a shepherd</dc:title>
</cp:coreProperties>
</file>