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B58-87CC-4136-BAEF-115BF94C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C80-AFAD-400A-B656-3C724040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609-485C-46DF-AF2E-72A26B45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C87-C1F2-4DF5-B8C3-840EA8F2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42D-49A1-4E49-A45E-DE4C67C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EF7-7E4C-4444-B825-6BAB45A5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15D-3C00-413E-96AD-C14BD8F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8FA-FC29-4BAD-BECB-1AD3BA2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BD8-CEBA-4A9D-9C94-AFC2465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EC2-1951-47F1-B978-9157E454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2FC-9FC3-4EC6-BFF6-1041CE3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FFE-D060-4D4B-A2D9-B13BF93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C2ED-8383-4915-A686-AF1061BD5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yumye Milimo   # 35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Revive thy Work, O L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ctr">
              <a:lnSpc>
                <a:spcPct val="8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  <a:ea typeface="Arial"/>
              </a:rPr>
              <a:t>Uyumye milimo,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ctr">
              <a:lnSpc>
                <a:spcPct val="8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  <a:ea typeface="Arial"/>
              </a:rPr>
              <a:t>njiyako Taateesu;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ctr">
              <a:lnSpc>
                <a:spcPct val="8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  <a:ea typeface="Arial"/>
              </a:rPr>
              <a:t>Koamba majwi enguzu,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ctr">
              <a:lnSpc>
                <a:spcPct val="8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  <a:ea typeface="Arial"/>
              </a:rPr>
              <a:t>Bantu ubamvwisye.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twakulind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seluka Mwami 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za tukode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twakulind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seluka Mwami 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za tukode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utuyandye nduw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utupe nsima yabu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izwa kulind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twakulind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seluka Mwami 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za tukode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kulemye bantu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uya wako ukomez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uyandisyo l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twakulind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seluka Mwami 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za tukode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yumye milim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ani mabotu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wiililwe bantu abo, batanaswiili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yumye milimo, twakulind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seluka Mwami 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oza tukode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yumye milim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tupe luzyalo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lemu mbubwaako  Mwami, Lukondo ndol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5:26:56Z</dcterms:created>
  <dc:creator>Guest</dc:creator>
  <dc:description/>
  <dc:language>en-US</dc:language>
  <cp:lastModifiedBy>ADMIN</cp:lastModifiedBy>
  <dcterms:modified xsi:type="dcterms:W3CDTF">2015-12-16T09:43:04Z</dcterms:modified>
  <cp:revision>7</cp:revision>
  <dc:subject/>
  <dc:title>Slide 1</dc:title>
</cp:coreProperties>
</file>