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7F65-0F55-43B4-931A-9E9848016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25F7-059C-42C0-998F-B07F7FB1D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A7F5-8452-42A9-8D2E-100CD761A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196A-B2C2-4EBC-819A-8886E4A0F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FC92-A3AC-466B-968E-A43202428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134B-8B54-4F93-942C-7763DA1C3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78EC-DC57-4A1B-8735-18B6DC100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7504-5ED1-4783-AD11-6DBF14B89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F7A3-2B0D-4513-8BB1-B092B9DDB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D2F9-5540-46AA-AA0C-4D2EA8320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64C1-DFB3-4A0E-9B1B-C975B2E0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30BF-627D-4A7B-A7CC-EA063EB2C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1E260-81B9-4BB3-B0C0-6BA0EAAD01B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95280" y="2276280"/>
            <a:ext cx="81374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weembezi nguwakandijana nkendimub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akaenda-enda munyika, kundivun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alibri"/>
              </a:rPr>
              <a:t>196. MWEEMBEZI NGUWAKANDIJANA</a:t>
            </a:r>
            <a:br>
              <a:rPr sz="3100"/>
            </a:br>
            <a:r>
              <a:rPr b="1" i="1" lang="en-US" sz="3600" spc="-1" strike="noStrike">
                <a:solidFill>
                  <a:srgbClr val="ff0000"/>
                </a:solidFill>
                <a:latin typeface="Calibri"/>
              </a:rPr>
              <a:t>Tune: While Jesus whispers to yo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dilaboola ku-Mwana Leza kundivun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Ulakonzya kundisalazya Mwami Jesu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weembezi mubotu ngu-Jesu ngo-Muvun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wanaambelele mubotu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gu-Jesu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dilaboola ku-Mwana Leza kundivun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Ulakonzya kundisalazya Mwami Jesu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ulufu lwa-Mwami ndajana lufutuk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kaambo kabulowa bwa-Jesu bwakatik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dilaboola ku-Mwana Leza kundivun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Ulakonzya kundisalazya Mwami Jesu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__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4T15:58:00Z</dcterms:created>
  <dc:creator>Jonah</dc:creator>
  <dc:description/>
  <dc:language>en-US</dc:language>
  <cp:lastModifiedBy>ADMIN</cp:lastModifiedBy>
  <dcterms:modified xsi:type="dcterms:W3CDTF">2015-12-08T14:10:56Z</dcterms:modified>
  <cp:revision>2</cp:revision>
  <dc:subject/>
  <dc:title>196. MWEEMBEZI NGUWAKANDIJANA Tune: While Jesus whispers to you</dc:title>
</cp:coreProperties>
</file>