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DDE-7B4A-4900-9199-05B75F4B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231-C0F6-44BC-B28D-2F68FF17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25D-8B5D-4936-B1C5-D5C6A6F6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A1F-B6A6-4B27-AF6F-AAF6CE46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4DF-5141-44F1-B6EA-405321E0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528-8783-4ADC-AB3B-D8A7B46B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DFE-1E23-424E-9665-0AACB7E3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78B-D8DF-4C84-87EA-990FE334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E99-5F14-4669-A4B9-55EEA0D4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530-4792-4F8A-ACF4-9100D837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0ED-60D3-4EC2-9169-A20DD268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E74-E4CB-49DF-AEE3-5559AE54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D9D4-38C6-432B-B412-2E4BC83A8DC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280" y="1915920"/>
            <a:ext cx="7232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a ulabotelwa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mba, lumba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buuli muyuni, Uulaimba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watumwa muuya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wamba uteelel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wamba ukombelw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umwiimbi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0 NAA ULABOTELWA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Thanksg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tumwiimbi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lamubotez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tutangalisy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umwiimbi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a wasyoma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, lu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 luse l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mwiimbil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katupenge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katubukila.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o wakatufwi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mwiimbi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tumwiimbi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lamubotez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tutangalisy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umwiimbi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a ulaamapen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, lu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lamubotez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mwiimb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onse abangel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lalumba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 lumba aa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mwiimbi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tumwiimbi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lamubotez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tutangalisy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umwiimbi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7:30:54Z</dcterms:created>
  <dc:creator>Jonah</dc:creator>
  <dc:description/>
  <dc:language>en-US</dc:language>
  <cp:lastModifiedBy>ADMIN</cp:lastModifiedBy>
  <dcterms:modified xsi:type="dcterms:W3CDTF">2015-12-09T10:20:07Z</dcterms:modified>
  <cp:revision>3</cp:revision>
  <dc:subject/>
  <dc:title>220 NAA ULABOTELWA Tune: Thanksgiving</dc:title>
</cp:coreProperties>
</file>