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F3B-D7CC-47E5-96DA-9A5405A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D01-095B-4663-9532-3DB5BB09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4A0-57FA-413F-9559-ED122221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021-CED5-410B-B58A-92D7AE85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CC7-65F1-480D-8F8D-96C54F26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69F-90E7-4E13-8488-2797794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3E7-F2AF-4E05-9969-CA856A6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D01-97CA-4D3B-A1EC-EDFBCECF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842-0FEF-4520-B652-56ACED5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C97-EA9A-4507-A717-E4D6ED1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96C-66AC-4F25-83C8-DA5DD18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83D-AC09-49A2-AA68-8A078F3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5EF4-79AE-4FE9-ADF0-991A8CA23C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1412640"/>
            <a:ext cx="7559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wami, Jesu abulowa bwak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janda kusanzigwa kuzibyaabi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kuba ndijisi zinyonyoon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kuba ndakakomwa amasunk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dilasyoma majwi aako kuti Ulasanzya, ulasanzy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5. UNDISANZYE</a:t>
            </a:r>
            <a:br>
              <a:rPr sz="4000"/>
            </a:br>
            <a:r>
              <a:rPr b="1" i="1" lang="en-US" sz="2900" spc="-1" strike="noStrike">
                <a:solidFill>
                  <a:srgbClr val="ff0000"/>
                </a:solidFill>
                <a:latin typeface="Calibri"/>
              </a:rPr>
              <a:t>Tune: Wash me clea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zwa mumiyeeyo indikop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zwa mukuyoowa kukataz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kuba inga tanditeele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usyomo ndatambika maanza, kuti webo undiimikiz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isanzye, Undisanz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kuyoowa ncobaamba bamw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tayoowi kukukambauk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disanzye, Undisanzye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wami munguzu zyako undiyumye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nse bazibe kuti ndiwako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uti ndasunkwa ndipe ndizund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sanzidwe, ndisanzidw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3:55:02Z</dcterms:created>
  <dc:creator>Jonah</dc:creator>
  <dc:description/>
  <dc:language>en-US</dc:language>
  <cp:lastModifiedBy>Jonah</cp:lastModifiedBy>
  <dcterms:modified xsi:type="dcterms:W3CDTF">2015-02-14T14:35:02Z</dcterms:modified>
  <cp:revision>1</cp:revision>
  <dc:subject/>
  <dc:title>155. UNDISANZYE Tune: Wash me clean</dc:title>
</cp:coreProperties>
</file>