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588C-3E32-4DF6-9BDF-A340E0D48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DCA3-E604-4D7F-93A1-CD64F3FE1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531F-8B47-439C-BE59-08684E41E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71CA-2199-4D23-BCBE-8F7563AB9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55BE-812D-416C-A405-EAF358108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88B7-255C-45C1-A612-DB992963B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6FA9-D773-42AE-9E53-2BDE3D98E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B4C5-B0EE-4F53-A2AE-96B9152B9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B439-3DB7-43A0-80BD-C2A2754AE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4C07-A06D-4589-9D67-82FF8EE29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6795-7EA9-4C4A-8B7A-F37881814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7368-5E52-4E36-B1EA-969A1BE57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9C2C3-1E7B-4F7B-B184-32BBE7A521F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325 Kuyanda Basimilimo</a:t>
            </a:r>
            <a:br>
              <a:rPr sz="4000"/>
            </a:br>
            <a:r>
              <a:rPr b="1" i="1" lang="en-GB" sz="4000" spc="-1" strike="noStrike">
                <a:solidFill>
                  <a:srgbClr val="ff0000"/>
                </a:solidFill>
                <a:latin typeface="Calibri"/>
              </a:rPr>
              <a:t>Tune: Far and near the field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2060280"/>
            <a:ext cx="77040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Amyuunda yatuba buu koon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Akulya koonse kwapy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Afwiifwi akule kul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yika yoonse ansi aano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Twakulomba lino Mwami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Tuma basimilimo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Bazikutebule nyik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Ciindi citanaman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Batume cifumofumo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Abamwi isikati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akuba kuti lyabbi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Babeleke mulimo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Twakulomba lino Mwami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Tuma basimilimo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Bazikutebule nyik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Ciindi citanaman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Pesi inywe mubelek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Mubeleke ca-Muuy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Mulimo muya kuum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Tuya kukkomanisy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Twakulomba lino Mwami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Tuma basimilimo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Bazikutebule nyik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Ciindi citanaman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__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8T11:22:50Z</dcterms:created>
  <dc:creator>Jonah</dc:creator>
  <dc:description/>
  <dc:language>en-US</dc:language>
  <cp:lastModifiedBy>Jonah</cp:lastModifiedBy>
  <dcterms:modified xsi:type="dcterms:W3CDTF">2015-02-18T11:33:30Z</dcterms:modified>
  <cp:revision>2</cp:revision>
  <dc:subject/>
  <dc:title>325 Kuyanda Basimilimo Tune: Far and near the fields</dc:title>
</cp:coreProperties>
</file>