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8A3E-EE59-4B12-A6A5-F85544A89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329A-D327-4A95-90C2-01BE25DDA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C068-F9C1-4D03-BCF7-D0EBB9C9C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FA11-EB98-42D6-B562-9E56ACA2C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184A-3B97-44EF-AA40-9E674855A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C464-2C38-4B32-BA7F-F9196E7B1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F8D1-0A35-4681-8505-DE74C70A6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BDBC-3A0B-4455-B325-69DE0A74B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3F2E-D09F-4D1E-930D-15C36E909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68FA-1E7D-4394-89AB-2DACF2BA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7742-20E9-481A-BAE1-ECD2E43E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68AC-0B09-4F91-8506-E89AB48C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2889F-7A1A-4D59-89CB-D1A474DA7E8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199 Zyaansi zilamana</a:t>
            </a:r>
            <a:br>
              <a:rPr sz="3200"/>
            </a:br>
            <a:r>
              <a:rPr b="1" i="1" lang="en-GB" sz="3200" spc="-1" strike="noStrike">
                <a:solidFill>
                  <a:srgbClr val="ff0000"/>
                </a:solidFill>
                <a:latin typeface="Calibri"/>
              </a:rPr>
              <a:t>Tune: Fade, fade, each earthly jo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640" y="2133720"/>
            <a:ext cx="81360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000000"/>
                </a:solidFill>
                <a:latin typeface="Calibri"/>
              </a:rPr>
              <a:t>Syaala zibyaabi, Jesu nguwangu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000000"/>
                </a:solidFill>
                <a:latin typeface="Calibri"/>
              </a:rPr>
              <a:t>Ndazisiya zyoonse, Jesu nguwangu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000000"/>
                </a:solidFill>
                <a:latin typeface="Calibri"/>
              </a:rPr>
              <a:t>Musinzo mupati kuzwa ansi aano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000000"/>
                </a:solidFill>
                <a:latin typeface="Calibri"/>
              </a:rPr>
              <a:t>Jesus wandikwela, Jesu nguwangu.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68000" y="1600200"/>
            <a:ext cx="828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utandisukusyi, Jesu nguwang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Kuno ndiyookkala, Jesu nguwang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Zyaansi zilamana, zyoonse zimwaigw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Zilanyonyaunwa, Jesu nguwangu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Syaala owazibi, Jesu nguwang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Syaala zyamasiku, Jesu nguwang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Zyakandikatazya; zyandipenzya buy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Zyoonse ndazisowa, Jesu nguwang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Syaala coonse caansi, Jesu nguwang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Boola zitamani, Jesu nguwangu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Boola buumi bupya, boola lutangal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Boola ziluleme, Jesu nguwangu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4T16:21:47Z</dcterms:created>
  <dc:creator>Jonah</dc:creator>
  <dc:description/>
  <dc:language>en-US</dc:language>
  <cp:lastModifiedBy>Jonah</cp:lastModifiedBy>
  <dcterms:modified xsi:type="dcterms:W3CDTF">2015-02-14T16:36:48Z</dcterms:modified>
  <cp:revision>2</cp:revision>
  <dc:subject/>
  <dc:title>199 Zyaansi zilamana Tune: Fade, fade, each earthly joy</dc:title>
</cp:coreProperties>
</file>