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6377-5CE8-4A21-90E3-9BB3FCD37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AC22-B6AB-4174-8855-60CE9C6D2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FC52-821B-4B59-9003-73AD428B6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2EC8-5522-49A1-BBC7-401909128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CD6C-4D89-4380-B53D-397357E30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2657-A2CD-427E-BF3D-A1583A648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0113-92EC-4A16-8FA7-7617F8B8C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3A24-7E6C-402A-9F0C-0995BD05A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2290-27C9-4DD3-97ED-33A0C76C5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9998-7DBC-4A60-A9A5-55341D69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A377-5C5D-4CA7-A7AB-7CAD35AE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29C6-A097-4C48-B1CC-DFA5373A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75811-70FB-44F8-B944-1C864E97B9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mulange Iwasika    # 85</a:t>
            </a:r>
            <a:br>
              <a:rPr sz="4400"/>
            </a:br>
            <a:r>
              <a:rPr b="1" i="1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See He has Co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04920" y="160020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ulange iwasika walo ngo-Mubetesi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umayoba waboneka uubeteka inyik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Ncoonzyo, ncoonzyo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nguubeteka inyik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5335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wami bwakwe bwaboneka bwami mbomwakaluba. Busyu bwakwe bulamweka bwakozyana azub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Ncoonzyo, ncoonzyo, bwakozyana azub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Nyika ilayoboloka yoonse kubusyu bwakwe. Aabo bafu bayoobuka bayoobetekwa nguw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Ncoonzyo, ncoonzyo, bayobetekwa nguw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066680"/>
            <a:ext cx="8382240" cy="42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Wabeteka zisi zyoonse ulizi majwi aazyo.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unu myoyo yesu yoonse, iboole kulinguwe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Ncoonzyo, ncoonzyo, 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boole kulinguwe.</a:t>
            </a:r>
            <a:br>
              <a:rPr sz="2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838080" y="990720"/>
            <a:ext cx="7772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Mufutuli ngundiyanda, ndakomba muuya oyu.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Uyoondivuna ncobeni, undinjizye mujulu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Ncoonzyo, ncoonzyo, undijizye muju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3T19:21:47Z</dcterms:created>
  <dc:creator>Guest</dc:creator>
  <dc:description/>
  <dc:language>en-US</dc:language>
  <cp:lastModifiedBy>ADMIN</cp:lastModifiedBy>
  <dcterms:modified xsi:type="dcterms:W3CDTF">2015-12-03T13:29:20Z</dcterms:modified>
  <cp:revision>7</cp:revision>
  <dc:subject/>
  <dc:title>Amulange Iwasika    #85 See He has Come</dc:title>
</cp:coreProperties>
</file>