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ED8-4065-4AAE-AF01-407E1885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073-71AB-4C9F-A5D3-C73D030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F26-B42F-4896-ABCE-E4BC7626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D41-1EB1-4608-B286-89B541BB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C32-CC55-40E6-BF60-B3546BB2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094-A2FB-4684-95D9-6E17931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BEB-5495-4BC3-882D-6FFB73F0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4F7-59A8-4B0F-9406-F534114F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0CD-CCBD-4011-BEF8-63ECC7D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87C-059D-48C5-A01F-FB4B4EA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5DF-1B17-4086-84BD-0A0F80B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B49-88DC-4C7F-A81B-1A3130E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20A2-9CDF-4BD1-A02A-B61871FF2A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77 Jesu naakanjila moyo</a:t>
            </a:r>
            <a:br>
              <a:rPr sz="44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Since Jesus came into my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060280"/>
            <a:ext cx="820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uumi bwangu boonse Bwakandisint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aakanjila moy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jisi mumuni ngwindali kuy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andiletela lu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botelwa kupati kulandizu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unu ndaleka kuzelengana k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zibi zyangu zyoonse zyakasanzig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andiletela lu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botelwa kupati kulandizu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jisi bulangizi businizizy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mana mudima wakudonai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andiletela lu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botelwa kupati kulandizu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siyoowi mapenzi, nsiyoowi luf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unu ndili mulweendo, ndaya kujul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s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Wandiletela lukond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Kubotelwa kupati kulandizu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Jesu naakanjila moy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5:00:58Z</dcterms:created>
  <dc:creator>Jonah</dc:creator>
  <dc:description/>
  <dc:language>en-US</dc:language>
  <cp:lastModifiedBy>ADMIN</cp:lastModifiedBy>
  <dcterms:modified xsi:type="dcterms:W3CDTF">2015-12-08T10:55:14Z</dcterms:modified>
  <cp:revision>3</cp:revision>
  <dc:subject/>
  <dc:title>177 Jesu naakanjila moyo Tune: Since Jesus came into my heart</dc:title>
</cp:coreProperties>
</file>