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2EA-557D-4CC3-BB3E-5E81AEB9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276-D2AF-4D94-91EB-1FA0E838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3D8-CB41-43F1-BCAF-9BE01988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42F-3A6D-49F3-B29D-E0C2CAB4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69B-A148-4C8C-98AC-8531170A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148-5D96-4594-8B46-A3534F6D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C4C-2DBA-4C77-ACC1-668EF61A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71C6-C1FF-44CF-AF96-B5525B33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AD8B-6765-41A8-964F-AD18B885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D55C-5CAA-4062-8A59-3721C21F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515-7106-45F5-84EC-938DB025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9D85-EF49-490A-8A40-33BE9EAB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B694-1B30-4A99-8C5A-8D7121A22CB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330 Zinjizye</a:t>
            </a:r>
            <a:br>
              <a:rPr sz="3600"/>
            </a:b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Tune: Hark the shepherd’s vo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777708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 Mweembezi naateel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mbelele zilali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malundu zyazim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oya ukazipilusy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Zinjizye, zinjizye, zinjizy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luba lwazy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Zinjizye, zinjizye, zinjizy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Zifutuk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guni uyanda kuun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zipilusya mulub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guni uyakuzigwas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Zilyookezye mucimpat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Zinjizye, zinjizye, zinjizy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luba lwazy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Zinjizye, zinjizye, zinjizy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Zifutuk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Zilalila zyazim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mumalundu malamf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eelela Jesu ulaam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kazinyone mulub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Zinjizye, zinjizye, zinjizy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luba lwazy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Zinjizye, zinjizye, zinjizy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Zifutuk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2:04:20Z</dcterms:created>
  <dc:creator>Jonah</dc:creator>
  <dc:description/>
  <dc:language>en-US</dc:language>
  <cp:lastModifiedBy>ADMIN</cp:lastModifiedBy>
  <dcterms:modified xsi:type="dcterms:W3CDTF">2015-12-12T20:02:50Z</dcterms:modified>
  <cp:revision>4</cp:revision>
  <dc:subject/>
  <dc:title>330 Zinjizye Tune: Hark the shepherd’s voice</dc:title>
</cp:coreProperties>
</file>