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E87-420E-4113-8C63-FCDF4363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CDD-7542-42A6-BC42-1AA7B9FC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649-D86E-4EA2-A84E-27D97BF4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528F-3A07-4DE8-8DBC-92AD1155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CD15-666E-4E93-9D48-1AB55246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EE4-227D-4E57-9B10-A6C701C7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DCF-0510-4D59-8DB8-CF1E2E99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C15-4F0E-4CC7-AF67-3D0D8FE0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890-F21B-4614-8DD0-DBB2A987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15B-95F5-4D1F-A71D-71D5A23D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CCE-7DB9-471F-99E8-9555E537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12C-2DFC-455B-B7C3-8D220BB4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DC86-375F-4BCC-912E-71B81E8021D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6912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161 Cita Mboyanda</a:t>
            </a:r>
            <a:br>
              <a:rPr sz="4400"/>
            </a:b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Tune: Have thine own w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2133720"/>
            <a:ext cx="8713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ita mboyanda, Mwami Mubumb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i Mubumbi, ndili bulong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wami, ndibumba, mbuli mboya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bwendilindila, Mwami Mubumb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ita mboyanda, Mwami Muswey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salala, ndilisofweed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ondisalazya mane nditub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bwendifugama, Mwami Muswey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ita mboyanda, Mwami Mugwasy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i Singuzu, ndili mutet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wami ndigwasya, mbuli mbwembu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kandiyumye, Mwami Mugwasy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ita mboyanda, Mwami Singuz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oola, ukkale mumoyo w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akukozyanye, nkakulemek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be wako olikke, Mwami Singuz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4:12:11Z</dcterms:created>
  <dc:creator>Jonah</dc:creator>
  <dc:description/>
  <dc:language>en-US</dc:language>
  <cp:lastModifiedBy>Jonah</cp:lastModifiedBy>
  <dcterms:modified xsi:type="dcterms:W3CDTF">2015-02-14T14:28:45Z</dcterms:modified>
  <cp:revision>2</cp:revision>
  <dc:subject/>
  <dc:title>161 Cita Mboyanda Tune: Have thine own way</dc:title>
</cp:coreProperties>
</file>