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005-39F4-4DD7-A85C-4FFA71A1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AFAF-4AD9-40A9-B330-D45E5387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1F12-AE76-4D22-9927-BFEF3482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A45A-0D65-4A4A-A2A7-4EC2F978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949-1954-440E-B210-6E7D7389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684D-6354-4C48-A097-130F71EE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42FF-0B8E-4AE6-9DEB-7BADAB14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5FCE-599A-4E43-9E9D-82072930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AFE8-4BA5-4511-B37D-A6687728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8FFF-D652-4194-AA4B-ACE2D88F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5E80-1C9B-4EF3-9158-5ACEF4D7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E649-9DB6-4178-A45C-BFB193A7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78C8-D1D0-44F5-9A3D-1A7E49F57B4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352 Leta Maila</a:t>
            </a:r>
            <a:br>
              <a:rPr sz="4000"/>
            </a:b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Tune: Sowing in the mo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1773000"/>
            <a:ext cx="777708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osyanga cifumo imbuto yalu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yanga isikati akumazu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inda ciindi cakutebula kupat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akukondwa tulaleta mai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Leta maila, leta ma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Cakukondwa tulaleta mai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Leta maila, leta ma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Cakukondwa tulaleta mai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yanga musala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yanga mumudim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tayoowi makumbi naa impey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wamana milimo yoonse yamumuu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akukondwa tulaleta mai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Leta maila, leta ma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Cakukondwa tulaleta mai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Leta maila, leta ma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Cakukondwa tulaleta mai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kulila ukamusyangile Mw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ekuba moyo uyakupenges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wamana kulila uyakututam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akukondwa tulaleta mai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Leta maila, leta ma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Cakukondwa tulaleta mai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Leta maila, leta ma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Cakukondwa tulaleta mai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13:28:44Z</dcterms:created>
  <dc:creator>Jonah</dc:creator>
  <dc:description/>
  <dc:language>en-US</dc:language>
  <cp:lastModifiedBy>ADMIN</cp:lastModifiedBy>
  <dcterms:modified xsi:type="dcterms:W3CDTF">2015-12-14T13:42:43Z</dcterms:modified>
  <cp:revision>4</cp:revision>
  <dc:subject/>
  <dc:title>352 Leta Maila Tune: Sowing in the morning</dc:title>
</cp:coreProperties>
</file>