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9D56-A200-4BFB-A10B-B6D8E276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43F-FA4D-47E5-842D-34BFF450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BE0-0278-4C1F-A54F-CC94F8F1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37A-64A7-48C2-A80E-4AF94DBE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C65-85B9-4998-BB47-612C4E98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D191-40D5-424F-9624-8E8B49D2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B1DE-79E7-4EF7-999B-254AD745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3AEE-0E76-4804-BD6D-D8FFB017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795B-B6B1-4A82-BC0A-9BE206DB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77BB-4F35-4088-AA7B-08BA2F66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76B-22B7-4445-ADB5-62368F15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B72-36E2-410A-8808-D2E2C4CA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6227-263C-4FBC-A02B-F0605BC15B2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55640" y="549360"/>
            <a:ext cx="770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lindila Akulangila  8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Waiting and W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atuzi ciindi naboo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asikati naa masiku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akuba nelibbila zu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ntela kuyanda kuc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68360" y="141264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atwaambila tulibamb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taleki kumwekesy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ayakuboola atujan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oonse tulamulangi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inda … Lang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inda … Lang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inda … Lang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ngila akukulind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ayeeya luse lwakwe lunj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ulumbu bwalufutuk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kasiya munzi kujul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kufwida basweeked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asyoma kumukomanis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bafwida kubafutul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mukomane ulaboo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kumulangila wal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inda … Lang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inda … Lang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inda … Lang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ngila akukulind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O Jesu Mufutuli w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inzi ndilayandisy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usyomo kuti nkakubon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amvwe ijwi lyako lindiit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ti bamwi wababetek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guni inga wakuyub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yakukwaanzya aluyand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aambo ndilakulangi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inda … Lang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inda … Lang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inda … Lang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ngila akukulind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05:04:39Z</dcterms:created>
  <dc:creator>Jonah</dc:creator>
  <dc:description/>
  <dc:language>en-US</dc:language>
  <cp:lastModifiedBy>Jonah</cp:lastModifiedBy>
  <dcterms:modified xsi:type="dcterms:W3CDTF">2015-02-01T05:26:04Z</dcterms:modified>
  <cp:revision>4</cp:revision>
  <dc:subject/>
  <dc:title>PowerPoint Presentation</dc:title>
</cp:coreProperties>
</file>