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D9A7-E227-4B13-A63A-090B3168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AFB6-8D7E-4329-B71E-2D3C9335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4755-B495-4F20-B6C9-3CED06DB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7A17-D5C9-4BE4-B726-06638CE45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851C-3B28-4A9D-B17D-16D8E8B4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8245-72CF-46EC-91A4-43729EFA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AB5E-0A4B-4A12-8589-D97BA40E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A635-E61C-44C2-A7D9-DFED0097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6DDB-DDD8-4DDE-8D8C-AB2ABBBA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CBEE-0709-4AB9-AA78-641D40FD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1D25-97C1-4DD4-BC31-261BB518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500F-FA2F-4357-831B-E7F8A57F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D38A-EBFC-4944-88C7-574F956F1DD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358 Similimo wasika ook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1773360"/>
            <a:ext cx="81360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imilimo wasika ook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ilumamba walyookez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ikuloba wazubuk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mutola nkwaalangilw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aata, twamusiya mwanaak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Woona, umubambe lyoo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Itwe aliboole kwiit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ajwi aakulila kw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Pele majwi aakulumb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kaambo Mwami wakabuk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aata, twamusiya mwanaak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Woona, umubambe lyoo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aata, twamusiya mwanaak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Woona, umubambe lyoo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Yasindwa misozi yak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sisidwe abonek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abetekelwa makan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-Mubetesi mubot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aata, twamusiya mwanaak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Woona, umubambe lyoo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oonse aabo beempwa kal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zibi nzibakacit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kweebela ciingan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litambwidwe kujul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aata, twamusiya mwanaak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Woona, umubambe lyoo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Lino ooko baleembel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kuvunwa Mwami J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Yamana inkondo yab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likkede muluumun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aata, twamusiya mwanaak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Woona, umubambe lyoo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Ooko takukwe uukonzy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cinyanzya coolwe cabo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ubalindila ngu-J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gu-Singuzu uubavun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13:43:51Z</dcterms:created>
  <dc:creator>Jonah</dc:creator>
  <dc:description/>
  <dc:language>en-US</dc:language>
  <cp:lastModifiedBy>Jonah</cp:lastModifiedBy>
  <dcterms:modified xsi:type="dcterms:W3CDTF">2015-02-19T14:41:22Z</dcterms:modified>
  <cp:revision>4</cp:revision>
  <dc:subject/>
  <dc:title>358 Similimo wasika ooko</dc:title>
</cp:coreProperties>
</file>