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988-4DAB-4A55-BF85-463FC9B4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CF4-FD8A-408E-89DE-17082803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6B5-1337-4BD5-AC1E-06DE4702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911-4C2A-48B1-9AA5-D6B5A1F4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EE0-EB01-4C4B-92F9-DBADC51E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19E-AEA0-4685-8473-C63AB0E9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6D0-E284-4601-8CCE-BAED042A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FB4-C32B-4B73-9CC1-3DB3788B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8EB-DBCD-44AA-9246-B5E32280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9BE-6F22-454B-9CD8-7083E0AB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E32-6DFB-4213-9AAF-CE89DFF8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DCC-E442-4772-B85E-2DA811B3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4A0A-A999-4C0F-BEF9-DBEBB72A254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307 Tunyina Munzi Mubo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141264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nyina munzi mubo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tuyandi wamunyi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esi atukkomanis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otulanga munzi uum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otulanga munzi uum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nyina munzi mubo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langa uutalibony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iyoni ndezina lyaw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salala bun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salala bune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cilawo cakuumu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cilawo cabanunun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ti ndaba amaba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laulukila oo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laulukila oo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oyo wangu koumu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izi ciindi ceele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ubotu ndimunyonen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imwi mwini andiles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imwi mwini andilesy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2:08Z</dcterms:created>
  <dc:creator>Jonah</dc:creator>
  <dc:description/>
  <dc:language>en-US</dc:language>
  <cp:lastModifiedBy>Central Church</cp:lastModifiedBy>
  <dcterms:modified xsi:type="dcterms:W3CDTF">2015-12-31T23:08:27Z</dcterms:modified>
  <cp:revision>4</cp:revision>
  <dc:subject/>
  <dc:title>307 Tunyina Munzi Mubotu</dc:title>
</cp:coreProperties>
</file>