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EEF-0A9D-4B6F-A3BC-C18D3048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9B4-170E-4B5F-9646-2112111F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39E-9F26-44C7-A7BC-8AC9E65B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F0D-E1E3-4A7C-B46E-305A1764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303-95BB-4EE6-808A-91188B3B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9AB-0CBD-4E61-8246-702DF354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C73-0BCE-4DA4-9A1B-744EDE7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A2D-4C7D-411F-A389-9DFB2889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EFD-7DE6-4A65-B992-C90F6315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4E9-736A-4CD2-BC01-A7B4D2F0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D0C-59AC-40B4-B986-1D6F32B5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442-095A-4ADF-B205-7AF14026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1808-7FF2-4BDC-B9A5-8CE4AC606A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32 Bakaleta Zipe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162828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Bakaleta zipego zyabo kuli-Jesu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Jesu watambul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Luyando lwabo loons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Milimo mibotu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Yakugwasya bacete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Jesu waziyand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Zipego zyabo zyoonse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ena uyanda kumulet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cayanda, Komwaambila, “Mwami ndakupa moyo wangu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bali lyab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akaimvwi mucet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bona zipego zyab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oonse zi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elyo wakayanda kutola cip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si kunyina ncaajisi kumutole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ena uyanda kumulet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cayanda, Komwaambila, “Mwami ndakupa moyo wangu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ila: “Mwami ndikuzi uli Sil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otola nkwendi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oyo wangu mubi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wamwaambila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tayeeyi ncisyoont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oonse nzibotu pes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ko cilainda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ena uyanda kumulet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cayanda, Komwaambila, “Mwami ndakupa moyo wangu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2:29:24Z</dcterms:created>
  <dc:creator>Jonah</dc:creator>
  <dc:description/>
  <dc:language>en-US</dc:language>
  <cp:lastModifiedBy>Jonah</cp:lastModifiedBy>
  <dcterms:modified xsi:type="dcterms:W3CDTF">2015-02-18T12:47:32Z</dcterms:modified>
  <cp:revision>3</cp:revision>
  <dc:subject/>
  <dc:title>332 Bakaleta Zipego</dc:title>
</cp:coreProperties>
</file>