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F93-184F-4778-B510-A3C9BFB2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55B-EA68-4837-8F26-56C808B7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D1B6-243D-4C53-9335-996748E3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FD2-D331-4704-9A8C-6137071C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D579-FB75-4EF4-A59A-C4507C7F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AF2-AAC0-417E-B0E0-9E638A16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BC48-CD8E-4C79-9B84-CD46181C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120-C8A7-4E75-A87D-F247B4F3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881-54B8-4E6A-A97C-FE85000F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683-B822-4367-807E-74AED574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CD7-112E-435D-B77B-6D3FE2A2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EF0A-C0B9-4A96-A4EB-52CF57C1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53BE-5DAE-40C1-A610-2922F8116BA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1341360"/>
            <a:ext cx="835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ulaa lweendo lwa-kujulu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ulaya? Mulay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wiimba luyando lwa-Jes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ulaya? Mulay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anji bakaenda kooko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upenga kwabo kwamana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poicili mvuta mpa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ulaya? Mulay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152. TULAALWEENDO LWAKU-JULU</a:t>
            </a:r>
            <a:br>
              <a:rPr sz="2900"/>
            </a:br>
            <a:r>
              <a:rPr b="1" i="1" lang="en-US" sz="2900" spc="-1" strike="noStrike">
                <a:solidFill>
                  <a:srgbClr val="ff0000"/>
                </a:solidFill>
                <a:latin typeface="Calibri"/>
              </a:rPr>
              <a:t>Tune: We’re travelling hom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zila yanu yabonek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ulaya? Mulay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uleelede kusanduk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ulaya? Mulay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ufutuli ulamwiita 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muyumune ciingano canu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uncilile, mufutulw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ulaya? Mulay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uti ndamvwa umwi wati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dilaya, ndilaya,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datalika ntubye nzil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yende, ayend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indamwaambila asiy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eenzinyina bamunyi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uti akkale a-Jesu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yende, ayend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3:32:38Z</dcterms:created>
  <dc:creator>Jonah</dc:creator>
  <dc:description/>
  <dc:language>en-US</dc:language>
  <cp:lastModifiedBy>ADMIN</cp:lastModifiedBy>
  <dcterms:modified xsi:type="dcterms:W3CDTF">2015-12-07T14:57:28Z</dcterms:modified>
  <cp:revision>2</cp:revision>
  <dc:subject/>
  <dc:title>152. TULAALWEENDO LWAKU-JULU Tune: We’re travelling home</dc:title>
</cp:coreProperties>
</file>