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22E-8AB8-4529-ADD6-27C3769E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57A-5CC6-4745-A50B-E753A0E1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33D-D67C-4991-8D54-F8008141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CF3-7475-420D-B48A-844F5294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EA1-75B1-46C0-A6A0-80B5B59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543-78C4-4BEF-B4B6-D2049B8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A78-C28B-4BB0-8E2A-D28EFA8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E11-46CD-4C8F-BA94-6E9A781E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6AC-EEF3-41FC-AE18-DCCAAC52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274-FD60-4798-980D-5E0948D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02B-9D54-4A82-9416-3337B3D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B73-371A-44EA-9273-1ABFD53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87D8-2863-4BA5-989E-24066AC64E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9930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zuba bwakukkoma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ndakakusala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angu uleele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baambila bantu b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. BUZUBA BWAKUKOMANA</a:t>
            </a:r>
            <a:br>
              <a:rPr sz="40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O happy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isya kupaila akukkomanisy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wasimpila, kwasimp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iwakwe, uli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ndikwela, ndaci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kkomana kwii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isya kupaila akukkomanisy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lyookezya moyo w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yeeya Mwami wazyoonse Utandaani a-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ijisi zintu z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isya kupaila akukkomanisy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ubotu buz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Jesu naandigwisya zi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4:02:43Z</dcterms:created>
  <dc:creator>Jonah</dc:creator>
  <dc:description/>
  <dc:language>en-US</dc:language>
  <cp:lastModifiedBy>ADMIN</cp:lastModifiedBy>
  <dcterms:modified xsi:type="dcterms:W3CDTF">2015-12-17T14:30:01Z</dcterms:modified>
  <cp:revision>4</cp:revision>
  <dc:subject/>
  <dc:title>160. BUZUBA BWAKUKOMANA Tune: O happy day</dc:title>
</cp:coreProperties>
</file>