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0BA-DFB9-42E8-A427-B4BA012C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D7C-369A-46E1-A980-751E87C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336-540A-4C2A-B30C-13F364CF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515-EFE0-4B49-BE0F-C5C4733C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494-918D-4A06-8EF0-79FE95CD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E10-26B9-4492-8F21-D8E5D1C7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628-1A30-449A-9E0C-FB58AB3E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A60-D2E5-4BE1-93D6-D9DE0077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3F3-62A3-4F04-B427-7F41B31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239-4BE5-49FB-A845-B0648C56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582-0B17-47E2-AEED-995F501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F10-C43D-44DA-ACD6-FE67F93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E83-2C29-492B-9612-6054BE1260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23 KUNYIKA ILIK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5614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nyika iliku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obali banzyimi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ita, balai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diye nkuko li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 nditakkali p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u Mwami uundii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, andivu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yaala nyika yak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mumvwa Mwami waa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wambe batebul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muunda uliku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kwesu mundile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 nditakkali p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u Mwami uundii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, andivu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yaala nyika yak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tala lyoo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bona basoweg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lyango ujulil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zimini bandii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 nditakkali p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u Mwami uundii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, andivu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yaala nyika yak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ata, baama mwana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syaale nyoonse n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tala lyoo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jisi mulimo oo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 nditakkali p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u Mwami uundiit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diye, andivu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yaala nyika yak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1:09:30Z</dcterms:created>
  <dc:creator>Jonah</dc:creator>
  <dc:description/>
  <dc:language>en-US</dc:language>
  <cp:lastModifiedBy>ADMIN</cp:lastModifiedBy>
  <dcterms:modified xsi:type="dcterms:W3CDTF">2015-12-12T19:04:46Z</dcterms:modified>
  <cp:revision>4</cp:revision>
  <dc:subject/>
  <dc:title>323 Kunyika Ilikule</dc:title>
</cp:coreProperties>
</file>