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C02-2340-4D03-8C13-A0326E48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1E5-A456-4D36-87AC-B6550573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996-ED92-4C43-9C56-BE17E7D1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539-7F4D-4313-87AF-C0F67ACA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F55-6843-41BC-B9A0-91270C0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A98-E532-48E1-A87C-AE2E5F1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30C-2FE1-49D5-8108-7E16156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88F-2FAA-4A03-9064-E60535E7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3D2-155B-4E31-A183-57D1BAEC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99A-9C5C-4FEE-B442-40E17B3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1D7-C71E-4A2E-A2D7-A1196D8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942-E271-45E2-9659-9673C03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7E30-8475-483E-AB4A-00F9896D5A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218 Leza uli zuba lyesu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Sun of my so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7490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za uli zuba ly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bona 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muuya ukub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awo mponoozooyend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za uli ntobo y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tuyoowi nkondo zy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oonse zyakazundwa ng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lasika akukond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tupa luzyalo l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tupa abusala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pa boonse bako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bapa lukondezy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kondezyo lupati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kondezyo lwa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uli kulibamuyee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balayandwa ngu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ye nyoonse muli an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wiimbe kuli-Jehov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utembuule muluum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ze kwakwe akukond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8:30:53Z</dcterms:created>
  <dc:creator>Jonah</dc:creator>
  <dc:description/>
  <dc:language>en-US</dc:language>
  <cp:lastModifiedBy>ADMIN</cp:lastModifiedBy>
  <dcterms:modified xsi:type="dcterms:W3CDTF">2015-12-09T10:07:08Z</dcterms:modified>
  <cp:revision>4</cp:revision>
  <dc:subject/>
  <dc:title>218 Leza uli zuba lyesu Tune: Sun of my soul</dc:title>
</cp:coreProperties>
</file>