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19A-BE40-404D-BCCD-3CF31D4A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989-FFDD-4325-B414-72D532C2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8B5-F59B-4D96-87E5-40DEAB39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8AB-5958-4167-80B7-7EDC21AB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BC2-B70C-4170-BC85-F5621498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B4D-382C-4FA1-8DB2-AABEF56B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A7D-7B8F-4032-A15F-04307CE2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BC6-953F-461A-B8E7-46381882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5A4-F604-4206-A368-0AC6CE3A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8E9-7698-499C-A685-7E8D5BB6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CA1-C66B-4C3A-BFAE-934EB4F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EE6-AB75-4B5F-B81A-D37A049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C51D-4D08-49E3-9C37-9F0ECABC61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0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292 Kujulu kwa-Leza Mubuumbi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Tune: There’s a land that is fairer than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92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julu kwa-Leza Mubuum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baibbele litubuzya mu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sweeki, bazibi kamu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cobeni kubuumi bubot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julu, aa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akuswaangana antoom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julu, aa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akumuswaangana 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zoonjila twaimba nyi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yimbo zyakukondwa lo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penzi, mafwabi twaasiy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game kwiimba zya-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julu, aa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akuswaangana antoom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julu, aa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akumuswaangana 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lwazi, misozi tazi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le kukondwa lyoonse,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tolongo anzala tazi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le kukkuta lyoonse,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julu, aa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akuswaangana antoom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julu, aa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akumuswaangana 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ata ulatulindila oo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tubambila masen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lumbaizye Jesu t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kondwa kwaansi kulam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julu, aa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akuswaangana antoom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julu, aa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yakumuswaangana Le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06:36:05Z</dcterms:created>
  <dc:creator>Jonah</dc:creator>
  <dc:description/>
  <dc:language>en-US</dc:language>
  <cp:lastModifiedBy>Jonah</cp:lastModifiedBy>
  <dcterms:modified xsi:type="dcterms:W3CDTF">2015-02-18T07:26:19Z</dcterms:modified>
  <cp:revision>4</cp:revision>
  <dc:subject/>
  <dc:title>PowerPoint Presentation</dc:title>
</cp:coreProperties>
</file>