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616-E220-4040-A6CB-7C1C3FFD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D34-B84E-4C95-86EE-243DDD11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555-1514-422D-BE96-BF98330A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085-8A5D-4936-B924-5E4DDD3B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174-8C25-4C0C-940E-43D3A55C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F25-C774-4909-9DC9-6AD44EE8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16D-D7EB-4CB4-8BD1-DEEC38CF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02D-F497-4F81-A5BC-B41D6244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DDE-CC4A-4FC7-A616-21F0B5B7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C74-B1A8-49B8-B950-2DF29CDA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EC3-E0F4-4A0D-B685-8D4817C4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630-0E40-44AC-B123-6E74AC8C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D8DD-2B89-437F-93C9-DCAD4B2372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296 Tauko Ansi Aano</a:t>
            </a:r>
            <a:br>
              <a:rPr sz="36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une: My Good Hom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55700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Tauko ansi aano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Umunzi wangu pe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dili mulweendo lwangu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dilazunga zunga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Umunzi wangu ngooyo!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kouli kujulu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Taubonwa ansi aali boobu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kubo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kuno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otuya kwiimbila kuti aleluy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usyu bwangu kola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twi kwangu teel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munzi wangu ngooyo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inzi aano anyi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iyoondikasya 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nda moyo uutuba buya b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okuli takunji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munzi oku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zintu zifweede zibyaab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kubo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kuno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otuya kwiimbila kuti aleluy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usyu bwangu kola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twi kwangu teel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munzi wangu ngooyo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Oobo buzuba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Mbotuyoonjila mumunzi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A-Mufutuli wesu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abubotu bwakw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Kuyoozwa eeli ijwi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Lyakukankaman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Acisela tandikacimvwide.”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kubo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kuno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otuya kwiimbila kuti aleluy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usyu bwangu kola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twi kwangu teel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munzi wangu ngooyo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dilakumbila Mwami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ukuti ndipegwe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Inguzu nzendibula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zyakusisya ooko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Mbokuli amasunko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andizinguluk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diyookakilwa naa ndileendikke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kubo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nzi wangu kuno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otuya kwiimbila kuti aleluy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usyu bwangu kola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twi kwangu teel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munzi wangu ngooyo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08:29:34Z</dcterms:created>
  <dc:creator>Jonah</dc:creator>
  <dc:description/>
  <dc:language>en-US</dc:language>
  <cp:lastModifiedBy>ADMIN</cp:lastModifiedBy>
  <dcterms:modified xsi:type="dcterms:W3CDTF">2015-12-11T14:55:18Z</dcterms:modified>
  <cp:revision>5</cp:revision>
  <dc:subject/>
  <dc:title>296 Tauko Ansi Aano Tune: My Good Home</dc:title>
</cp:coreProperties>
</file>