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144-BE34-48C5-AA1B-32D46492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640-6C89-4F0A-811C-CC495EAC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8CB-378E-46A5-BAB8-B6F14410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9EC-2242-4F3D-A815-2F2DE617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6D2-5E3C-4485-B963-363E30E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DE4-AB5E-4D39-98B1-37B9A406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2C5-68F7-4827-A0AF-E8CE5BB0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B15-2AF3-47E1-8FEE-E86FB50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F20-7A78-4981-8140-7C138E6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DA6-0C30-4951-8F9A-3B2DF83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B60-3491-4953-85AF-46F7A0E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A6F-F866-496F-A6F2-912A17A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890F-F405-4F03-AAA7-456A091919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11 Jesu Wabweza Cibu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1916280"/>
            <a:ext cx="7704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wabweza cibu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wamwida b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ti, “Mutambule, mul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mubili wang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li mukulya cibung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iibuluk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bweze tulye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atuyeeya 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wabweza cinywi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ti, “Amulum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cecizuminano cip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bulowa bwang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no twabweza cinywi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onse tulakuny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yeeya bulowa bw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katwaangunu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44:27Z</dcterms:created>
  <dc:creator>Jonah</dc:creator>
  <dc:description/>
  <dc:language>en-US</dc:language>
  <cp:lastModifiedBy>Jonah</cp:lastModifiedBy>
  <dcterms:modified xsi:type="dcterms:W3CDTF">2015-02-18T10:57:33Z</dcterms:modified>
  <cp:revision>2</cp:revision>
  <dc:subject/>
  <dc:title>311 Jesu Wabweza Cibunge</dc:title>
</cp:coreProperties>
</file>