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08E-CC27-4203-B121-2F9CDE16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E19-6F7C-4910-9A00-7A6758D6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076-D555-4F88-A5C0-90357D74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B16-23CA-4BD7-BB20-87C01F31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6BD-BAD2-4AB0-8D22-B6AA011B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218-46BA-4E2A-907B-220466D4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683-1290-43FB-9887-DE33B034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899-79A4-460A-8FDD-00BF9514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7D1-FF2A-4A11-AB90-1D1DDED6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C93-D628-43B9-BA38-213DD03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D8C-4E27-4989-B83A-C7D4B232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705-F2B6-42C3-86C0-069F636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16A8-593B-488E-8D36-98206B8099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727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ocili mung’anda y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 wakomba 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zina lya-Mwam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 wakumbila luzyal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buuli intob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46 WAKOMBA NA?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Did you think to p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komba kugwasya ban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komba kusand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dima kuba mumun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komba sun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uwasukusigwa sun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 wakomba 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kulemekezya k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 wabuzya Muuya 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kuzulwind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komba kugwasya ban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komba kusand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dima kuba mumun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komba sun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a wanyema moyo w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 wakomba 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 buzya luse, mus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ti ujatile umw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kubisizy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komba kugwasya ban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komba kusand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dima kuba mumun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komba sun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penzi mapati asi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 wakomba 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a moyo wako waus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a wakumbila nguz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bwaca sunu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komba kugwasya ban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komba kusand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dima kuba mumun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komba sun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20:25:02Z</dcterms:created>
  <dc:creator>Jonah</dc:creator>
  <dc:description/>
  <dc:language>en-US</dc:language>
  <cp:lastModifiedBy>ADMIN</cp:lastModifiedBy>
  <dcterms:modified xsi:type="dcterms:W3CDTF">2015-12-10T08:56:18Z</dcterms:modified>
  <cp:revision>3</cp:revision>
  <dc:subject/>
  <dc:title>246. WAKOMBA NA? Tune: Did you think to pray</dc:title>
</cp:coreProperties>
</file>