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64B-FFEA-494D-8B63-19223638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D81-FF88-4D4A-8323-E5E1049C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C8F-7DCF-4386-B876-12E8223D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72B-5E36-4584-9D35-2A509D49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F0C-D07D-41BD-8A36-F50CAAE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D8F-4D1F-4A82-8386-871E42F1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3E1-AAC3-40A9-A30D-85BEFF2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A87-4F4A-46B3-BE07-FB0D342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844-868C-4AFC-8BD1-A673F77E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2BD-C642-4513-9C98-D270A75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7B4-B1AA-48B7-87FF-B197A800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A40-4949-4D2A-AF65-41F415B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ED78-B5DA-4189-91C6-629532B586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2133360"/>
            <a:ext cx="8497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ilakondwa nkaambo Leza wes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amba luyando lwakwe mwi-Bbuk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zigambya zili mu-Malemb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pati ncakuti wandiyan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2 NDILAKONDWA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I am so g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,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muyanda a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ndiyanda ame, ndamu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yando lwakamuleta ans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yando lwamucita amfw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sinizya kuti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,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muyanda a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uzigwa inga ndilaambanz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jwi ngenkozya kuvuwa ngaa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uya wa-Leza ulandyaamb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ti Jesu lyoonse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,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muyanda a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angu uli aluyand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aambo Jesu ngu-Muvuni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mubelekela a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aambo ndasyoma luyando lw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yanda,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ondwa Jesu wandi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muyanda a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7:45:05Z</dcterms:created>
  <dc:creator>Jonah</dc:creator>
  <dc:description/>
  <dc:language>en-US</dc:language>
  <cp:lastModifiedBy>Jonah</cp:lastModifiedBy>
  <dcterms:modified xsi:type="dcterms:W3CDTF">2015-02-14T18:02:37Z</dcterms:modified>
  <cp:revision>2</cp:revision>
  <dc:subject/>
  <dc:title>222 NDILAKONDWA Tune: I am so glad</dc:title>
</cp:coreProperties>
</file>