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800C-35E6-4510-9638-B7105BEF6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AE13-4E12-4560-A950-645436DF4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F704-BBE6-41DF-A3F4-62807FBAA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8DA0-4ACD-4B86-8D54-EF4567695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45F1-2129-45A3-A311-4A71B0E54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9181-555B-4E7C-8A73-6A5B051FC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0F7B-A075-49A8-BA20-5CF20C5D0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745D-8D54-4D10-840F-4AA488E29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E707-28FA-4E42-AA33-042C04C3B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8836-406F-4216-BCCC-B29203261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0F2C-2016-41BF-966B-5AD39563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F844-F0EF-4625-9B6A-A0172177A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3C625-BCE4-48B9-992B-E22EC053441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50560" y="2060280"/>
            <a:ext cx="87138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9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Nswene kwako Leza, nswene kwako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Naciba ciingano ncendibweza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Lwiimbo lwangu ndoolu, nswene kwako Leza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Nswene kwako Leza, nswene kwako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436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41 NSWENE KWAKO</a:t>
            </a:r>
            <a:br>
              <a:rPr sz="3200"/>
            </a:b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Tune: Nearer, my God to th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Ndaba mbuli mweenzu kwasiya mbi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Ndaba, mumudima, kondibweza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ukulota ndibe nswene kwako, Leza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Nswene kwako Leza, nswene kwak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Nzila naibonwe yakuyako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Koonse kondipegwa muluzyalo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Bangelo bandiita, nswene kwako, Leza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Nswene kwako Leza, nswene kwak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Ndaba amababa nduuluke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Ndilube izuba mukuya ooko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Lwiimbo lwangu ndolu, nswene kwako, Leza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Nswene kwako Leza, nswene kwako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4T20:14:33Z</dcterms:created>
  <dc:creator>Jonah</dc:creator>
  <dc:description/>
  <dc:language>en-US</dc:language>
  <cp:lastModifiedBy>ADMIN</cp:lastModifiedBy>
  <dcterms:modified xsi:type="dcterms:W3CDTF">2015-12-10T08:00:40Z</dcterms:modified>
  <cp:revision>3</cp:revision>
  <dc:subject/>
  <dc:title>241 NSWENE KWAKO Tune: Nearer, my God to thee</dc:title>
</cp:coreProperties>
</file>