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956-08B5-4354-8E26-5EF8DD8D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763-76D5-4014-ADE5-CBE6A462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976-52C1-4156-9CAC-518D33E8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87A-FE31-4C84-BBED-C9FA72B6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49C7-E044-4F01-8A73-D5664B56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33E-C04C-4CF6-9CA5-B4AEA3F9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2A94-990F-4CD5-86F2-B02FAD50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6F9-4708-4B6C-B969-4A76B6D5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EC7-55B8-4778-A252-6CFA4D70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9C1-6745-415A-86F1-EC56DFC3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DEA-4715-40DB-8D2B-2A46D783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C5F-DDB5-4591-9629-954ADA8F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0556-8F4F-4504-902F-C0857EB0F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likuli  - # 266</a:t>
            </a:r>
            <a:br>
              <a:rPr sz="4400"/>
            </a:br>
            <a:r>
              <a:rPr b="1" i="1" lang="en-US" sz="4400" spc="-1" strike="noStrike">
                <a:solidFill>
                  <a:srgbClr val="c00000"/>
                </a:solidFill>
                <a:latin typeface="Calibri"/>
              </a:rPr>
              <a:t>Where are the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560" y="18284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likuli balombwana bakozyene a-Mozesi; Wakagwisya aba-Israeli, Wabatola Mukeenan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or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meni     Ameni  (repea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likuli abakaint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kozyene a-Maliy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akafuma acifum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akainka kucuumb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or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meni     Ameni  (repea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6840" y="6858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ena wamvwa ijwi lyakwe lyamba kut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la-acoolwe batobela mwami wab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usikila akaboole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or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meni     Ameni  (repea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13:10:37Z</dcterms:created>
  <dc:creator>Guest</dc:creator>
  <dc:description/>
  <dc:language>en-US</dc:language>
  <cp:lastModifiedBy>ADMIN</cp:lastModifiedBy>
  <dcterms:modified xsi:type="dcterms:W3CDTF">2015-12-10T15:16:31Z</dcterms:modified>
  <cp:revision>9</cp:revision>
  <dc:subject/>
  <dc:title>Slide 1</dc:title>
</cp:coreProperties>
</file>