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1AF-E400-4326-A9DF-C0426408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49F-670D-405E-AFF3-A2621C7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93A-1836-4601-8C3F-02F1F8B3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4A3-E6D5-4AEF-A818-2F3FA0F4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CBB-94DA-4655-A193-9B188EF6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717-5E69-4C3E-881B-99C8C98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C6A-FBD4-49B0-A5D7-6FAB96B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D9D-B096-42A6-B6E1-3795EFBC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4EA-623E-490D-B2D9-5895385D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A3D-77EA-4909-9F76-BF4D9AB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8F1-3DA9-4091-80E8-A1D9231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D30-1E6C-4974-BEB8-3884881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654-937F-44D7-A23A-3D5EC63964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198900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e mu-Kris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e mu-krist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6 MWAMI LEZA MBE MU-KRISTO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Lord I want to be a Christ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ko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Kondi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e m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e mu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ndipe bu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ndipe buu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oole k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za, mboole k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kozye nduwe, 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kozye nduwe,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oonse, moyo w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9:47:06Z</dcterms:created>
  <dc:creator>Jonah</dc:creator>
  <dc:description/>
  <dc:language>en-US</dc:language>
  <cp:lastModifiedBy>Jonah</cp:lastModifiedBy>
  <dcterms:modified xsi:type="dcterms:W3CDTF">2015-02-14T20:04:37Z</dcterms:modified>
  <cp:revision>2</cp:revision>
  <dc:subject/>
  <dc:title>236. MWAMI LEZA MBE MU-KRISTO Tune: Lord I want to be a Christian</dc:title>
</cp:coreProperties>
</file>