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A93-72C3-4F17-BA28-C73B1BB9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92E-6C1F-42C2-92BA-C8857681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D1E-8704-48ED-B982-D5EE4066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FD7-E88E-436B-86DD-D586BDBB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E91-2116-4723-9189-E38D4031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ACB-E56A-48B5-B0D4-9F83D6BD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B87-6726-4986-9744-4DF366F8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835-A6D5-40DD-A90F-EC17A4A9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AA0-4ADC-4C4C-8FFF-0DC7F55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474-9DF5-4B8E-B2AE-CECD8BF5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8F1-E1EB-4A22-AEFA-16D48045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082-60F0-4E20-8E61-306F4E8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B2D5-F25F-47F1-A4E4-B473F1C618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2420640"/>
            <a:ext cx="69454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ubotu kusyoma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teelela majwi a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syoma cisyomyo c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ziba majwi a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63 NKUBOTU KUSHOMA JESU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‘Tis so sweet to trust Jes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, Jesu ndam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yoomusala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, Jesu, Jesu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syoma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ubotu kusyoma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kusyoma bulo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yanda kusalazig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bulowa bwa-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, Jesu ndam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yoomusala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, Jesu, Jesu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syoma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ubotu kusyoma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kuleka kub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tambula lufutu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uumuno lw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, Jesu ndam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yoomusala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, Jesu, Jesu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syoma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otelwa kum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su wangu mu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izi ulaa mb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a ambebo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, Jesu ndam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yoomusala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, Jesu, Jesu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syoma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21:26:12Z</dcterms:created>
  <dc:creator>Jonah</dc:creator>
  <dc:description/>
  <dc:language>en-US</dc:language>
  <cp:lastModifiedBy>ADMIN</cp:lastModifiedBy>
  <dcterms:modified xsi:type="dcterms:W3CDTF">2015-12-10T14:15:58Z</dcterms:modified>
  <cp:revision>4</cp:revision>
  <dc:subject/>
  <dc:title>263. NKUBOTU KUSHOMA JESU Tune: ‘Tis so sweet to trust Jesus</dc:title>
</cp:coreProperties>
</file>