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CCA-79BD-4D09-8DD2-CAB3BA30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624-B8CD-41EF-A2E3-EA49DFF9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392-B5EC-4E33-B4C0-05DF61F1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24C-0FEF-42F8-893C-661BC581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D94-3EF3-41B4-BDD0-82053B40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7F1-AC30-4C5E-AA5B-A0E87186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993F-4A86-401C-A107-B257D3DC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7E2-FA1E-4127-8F8B-0990C446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557-4BDA-4511-8D4E-7E383D2B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301E-34D6-4D60-A96C-D143CD2A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255-FF52-42C9-8A5D-AA4BFC2C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C5E-9233-4196-8140-1B2AA753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56A6-EAD0-4F5A-940F-048261F16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makumbi  Akujulu    # 84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When the Lord Shall C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makumbi akujul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esu ulaseluki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kutola banabakw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kukkala abal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mwi baimba, bamwi balil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mwi bausa balasyaa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mwi bakomba, bamwi bayub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esu Mwami asik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858960" y="1295280"/>
            <a:ext cx="746748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ena ulatija Jes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umubona okuya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oyo wako watuntaa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esu Mwami asik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533520" y="457200"/>
            <a:ext cx="7924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mwi baimba, bamwi balila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mwi bausa balasyaa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mwi bakomba, bamwi bayuba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esu Mwami asik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685800" y="1143000"/>
            <a:ext cx="777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ena ulataanga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uteelela majwi aakwe? Wakabamba moyo wako uswaangane amakumb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609480" y="83808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mwi baimba, bamwi balila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mwi bausa balasyaa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mwi bakomba, bamwi bayuba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esu Mwami asik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685800" y="129528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si eyi ila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wezi ulasiya mbii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yenyeezi zilalo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lazwa malundu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755640" y="762120"/>
            <a:ext cx="7931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mwi baimba, bamwi balila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mwi bausa balasyaa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mwi bakomba, bamwi bayuba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esu Mwami asik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19:00:56Z</dcterms:created>
  <dc:creator>Guest</dc:creator>
  <dc:description/>
  <dc:language>en-US</dc:language>
  <cp:lastModifiedBy>ADMIN</cp:lastModifiedBy>
  <dcterms:modified xsi:type="dcterms:W3CDTF">2015-12-16T14:54:09Z</dcterms:modified>
  <cp:revision>10</cp:revision>
  <dc:subject/>
  <dc:title>Slide 1</dc:title>
</cp:coreProperties>
</file>