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AD-7DD1-4502-A620-0E03CCE0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417-1FFE-474C-8366-6A96D4F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7FA-055B-40A1-9E45-2925AFD3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C47-3ED5-4C7A-B25D-543ACF17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20D-E66C-4AB9-B63B-1A1A027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35A-9F09-4E43-9B25-09B6A21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6AE-CB1E-4708-BB0F-5D86C4D5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6FD-448C-447E-9AA1-29E792A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7C8-D63B-4F17-AC92-A6BE4308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4C9-C219-451E-B3F0-312F30F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9CF-4ACC-49A3-8A42-EA5C2E84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A61-E349-418B-8FA9-A1DDD82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792-D14B-402B-8A4E-E7016BF221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84836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nena Jesu muluum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se lwakwe lutaman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ti nkasunkwe nsiyoo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nena Jesu ulaaf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72. PONENA JESU</a:t>
            </a:r>
            <a:br>
              <a:rPr sz="40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Living for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gwasya kukuman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ndigwasya kukulum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pone ayebo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we kuya kukusi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nena Jesu muluum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komba Mwami ndalelek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a buyo kucit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yando lwakwe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gwasya kukuman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ndigwasya kukulum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pone ayebo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we kuya kukusi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nena Jesu muluum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kuli yangu yabwez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musyoma walo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yoondisolol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gwasya kukuman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ndigwasya kukulum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pone ayebo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we kuya kukusi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nena Jesu muluumu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lemu bwakwe nkanjil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teelele majwi a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jila mumunzi mwana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gwasya kukuman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ondigwasya kukulumb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pone ayebo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kwe kuya kukusi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4:52:03Z</dcterms:created>
  <dc:creator>Jonah</dc:creator>
  <dc:description/>
  <dc:language>en-US</dc:language>
  <cp:lastModifiedBy>ADMIN</cp:lastModifiedBy>
  <dcterms:modified xsi:type="dcterms:W3CDTF">2015-12-08T10:05:51Z</dcterms:modified>
  <cp:revision>2</cp:revision>
  <dc:subject/>
  <dc:title>172. PONENA JESU Tune: Living for Jesus</dc:title>
</cp:coreProperties>
</file>