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E071-7600-477E-92C9-21201734C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2D0B-3868-45DD-9933-42B907132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DB9-FBCC-4427-8E47-C153BA70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F4D-F158-4B16-883E-95E29A1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60D-3E4F-4F86-8511-9079756E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015-A1FD-4003-96DD-105E7C33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1CD-9065-461A-AC73-CB93A270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BDE-53E6-474F-B396-9B430060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37A-21C8-4341-941B-CC858396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227-8A0B-4F50-B78F-112D0EDE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9A9-9A6B-4B65-9D0D-5F405920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9AC-A6D2-4507-85A4-8BE5E4AE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1CB-7380-4BB0-A6FE-63FEAED4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5FA-A56A-43C9-94EE-F47A493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EE43-E4D8-4AE1-B180-1955A14D1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esu Undijatisye  # 74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Jesus keep me Near the Cro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esu undijatisy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ciingano cak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ko kuli musam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usalazya zib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iingano, ciingano, mbobulemu bwang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ne ndeza oku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bulemu bwa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diime kuciingano, mbonesye zilond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maanza, amaulu mpowakayasig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iingano, ciingano, mbobulemu bwang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ne ndeza oku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bulemu bwa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iingano Mwami Jesu Undiyenzye lyoonse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ko lwakandizund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uyandisyo lwa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iingano, ciingano, mbobulemu bwang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ne ndeza oku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bulemu bwa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ko ndilalind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kusyoma ly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ne ndeza okuy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linduw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811080" y="1600200"/>
            <a:ext cx="7467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iingano, ciingano, mbobulemu bwangu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ne ndeza okuy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bulemu bwa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8:05:12Z</dcterms:created>
  <dc:creator>Guest</dc:creator>
  <dc:description/>
  <dc:language>en-US</dc:language>
  <cp:lastModifiedBy>ADMIN</cp:lastModifiedBy>
  <dcterms:modified xsi:type="dcterms:W3CDTF">2015-12-03T09:47:54Z</dcterms:modified>
  <cp:revision>7</cp:revision>
  <dc:subject/>
  <dc:title>Slide 1</dc:title>
</cp:coreProperties>
</file>