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ED0-05EB-462E-A100-E2AE2000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0F1-7072-40A0-B5A1-0E167D43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3A9-AB30-43F6-A866-5AC572A9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34D-6DA6-45ED-9E2C-AA674CFC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F87-B672-40BF-838F-D9F97501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7C7-938A-4B16-A1A6-20345D0F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31D-38F7-4CA5-81B3-DC57BAF6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471F-AA47-4116-8C72-393CEACE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F4A-A7D7-4FA8-8C3C-EF929161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6C03-371C-4D30-9215-371540E7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9A8-BCEE-4E72-B2B4-4049D2E1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5C2-E146-4950-89E7-676A995C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6EE9-28BE-4705-A4A4-91213032A2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920" y="2276280"/>
            <a:ext cx="7561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 Munyika muli zisun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ilasunka moyo 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Taata, naambi ndakabisya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Nsikulubi, Leza wangu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34 MUNYIKA MULI ZISUNKO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Tune: There are many temp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za, koza undigwasy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sweekede, Leza 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aata, naambi ndakabi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sikulubi, Leza 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za undilekele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lisisya kulindu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aata, naambi ndakabi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sikulubi, Leza 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atani ulandisunk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kuluba, Leza 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aata, naambi ndakabi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sikulubi, Leza 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uuya bwako tabuma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libwene kweempwa k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aata, naambi ndakabi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sikulubi, Leza 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esu, we wakandifwi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tandiindi, Mwami 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aata, naambi ndakabi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sikulubi, Leza 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uya wako Uusala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tuvune swebo t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aata, naambi ndakabi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sikulubi, Leza 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uya wako uli k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libwene Muuya wa-Lez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aata, naambi ndakabi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sikulubi, Leza 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8:49:22Z</dcterms:created>
  <dc:creator>Jonah</dc:creator>
  <dc:description/>
  <dc:language>en-US</dc:language>
  <cp:lastModifiedBy>ADMIN</cp:lastModifiedBy>
  <dcterms:modified xsi:type="dcterms:W3CDTF">2015-12-09T14:27:00Z</dcterms:modified>
  <cp:revision>5</cp:revision>
  <dc:subject/>
  <dc:title>234 MUNYIKA MULI ZISUNKO Tune: There are many temptations</dc:title>
</cp:coreProperties>
</file>