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23E-00D7-4A8F-B92C-A1360D2D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F49-8B42-4B91-B8CC-43EBF20A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173-ECA9-4A3E-8E59-46032FFA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3EA-4249-47E7-B2B5-29B0669B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D52-15C7-4BAC-9EEE-870BE0DF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C95-D070-47D3-A635-D2E4C156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FD8-747A-40B5-A511-32058DA3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3BC-7E44-4EA0-90DA-E34BDC3A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707-CBAE-4FB7-82C7-CFF07AB5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4CA-A9DD-4147-9B84-1D564328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5EE-0BDC-43F6-A874-AC5AD356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4DA-56FF-498A-8BEC-75CBD3CB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1193-2107-441B-B1FA-12A2D1E9FF0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99640" y="3141720"/>
            <a:ext cx="7559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laboola Jesu Mwami, Ndimucete ndimutet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intu zyansi tazigwasy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yandisya lufutu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44. NDILABOOLA, JESU MWAMI</a:t>
            </a:r>
            <a:br>
              <a:rPr sz="40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une: I am coming to the cro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kusyoma, Mwami Jesu, Owakafwa nkaambo k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libonzya kuli ndu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futule, mwami een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indi moyo wafwa nzal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bubi bwandivulil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esu wandaambila een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zookusanzya zibi zya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kusyoma, Mwami Jesu, Owakafwa nkaambo k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libonzya kuli ndu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futule, mwami een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lipeda kulingu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zyo zyoonse nzendijis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amubili w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be wako kuzwa sun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kusyoma, Mwami Jesu, Owakafwa nkaambo kang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libonzya kuli ndu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ifutule, mwami een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2:22:23Z</dcterms:created>
  <dc:creator>Jonah</dc:creator>
  <dc:description/>
  <dc:language>en-US</dc:language>
  <cp:lastModifiedBy>ADMIN</cp:lastModifiedBy>
  <dcterms:modified xsi:type="dcterms:W3CDTF">2015-12-07T13:10:55Z</dcterms:modified>
  <cp:revision>2</cp:revision>
  <dc:subject/>
  <dc:title>144. NDILABOOLA, JESU MWAMI Tune: I am coming to the cross</dc:title>
</cp:coreProperties>
</file>