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461-605C-4A84-B084-1D71FD1D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7A5-BFEA-42FC-BA24-71A1261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3BC-4E62-4686-854F-0726286C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571-8F35-47E0-8659-3EA9FB08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775-0BF7-4DC5-B3B8-9B87F02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66F-B65A-4BD0-9EBF-CA9E5378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F97-ECC5-4BE8-BF38-941C8029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1C6-3ED1-4556-BC9F-8358887D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BEC-DD03-48B0-9DF7-26375C04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168-4C53-4ABE-9562-AE80263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2C0-54B4-451D-93F8-B0DFD73E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2D6-29FC-485F-8FF5-9D4F2D7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453-F08D-4C5D-9247-A8E03D13DD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220464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bumba uutul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buuya bu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vuni ngot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li bana b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enga Mwami 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 LUBUMBA UUTULELA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Creator and pre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limo i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vula nzyaaci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ena ita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lumbwa namampin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enga Mwami w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yoba ngaatu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la ngetul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lo ngotuyo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lumbwa Namampin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enga Mwami w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nyama mbetuvu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yuni mbetul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isyu ncetuli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lumbwa Namampin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enga Mwami w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lundu nzetubo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saka ayoo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luba ngetwee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elelwa Uul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enga Mwami w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mbizi ngemaba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joba njing’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tuba mwaakka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bamba nacaanz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enga Mwami 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0:44:04Z</dcterms:created>
  <dc:creator>Jonah</dc:creator>
  <dc:description/>
  <dc:language>en-US</dc:language>
  <cp:lastModifiedBy>ADMIN</cp:lastModifiedBy>
  <dcterms:modified xsi:type="dcterms:W3CDTF">2015-12-10T10:20:01Z</dcterms:modified>
  <cp:revision>3</cp:revision>
  <dc:subject/>
  <dc:title>250. LUBUMBA UUTULELA Tune: Creator and preserver</dc:title>
</cp:coreProperties>
</file>