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AC4-540E-4E0A-BEE9-2D6645E7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F40-374A-417A-8341-9A1DB45E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704-BFC7-4871-836B-9A5AB543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F29-513D-409F-A9EB-474A3B12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BBD-5FE5-47F5-9DE2-30446A4D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86B-17E5-4513-9FD2-CDA5E7E1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600-4890-4BBB-B4F3-B7D22207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6DF-5590-4A66-8CAC-1BBE4B78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D87-599B-4D49-9F22-23FD6547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B5C-C437-4A53-805F-1FB4CEFF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406-F9CD-4D32-9C97-AC2D737A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C7E-A652-4C27-BF1C-42561736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F716-51D1-4C66-BB25-CE96406A1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endalanga Kuciingano   # 78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When I Surv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endalanga kuciingano akafwida Mwini Bwami, ndaamba nsijisi cintu, ndabuseka bwami b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silisumpuli Muvuni, ndilasyoma kufwa kwako, Zyoonse zyaansi zindikondezya, ndazinyasya nkaambo ka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umaanza, mutwe amaulu, kwazwa kuusa aluyando, wabona kuusa aluyando, amusyini iwa mamv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endijisi nyika yoonse, ncecilumbulo cisyoonto, luyando lwakwe lugambya lulaita moyo 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8:25:02Z</dcterms:created>
  <dc:creator>Guest</dc:creator>
  <dc:description/>
  <dc:language>en-US</dc:language>
  <cp:lastModifiedBy>ADMIN</cp:lastModifiedBy>
  <dcterms:modified xsi:type="dcterms:W3CDTF">2015-12-03T10:50:14Z</dcterms:modified>
  <cp:revision>9</cp:revision>
  <dc:subject/>
  <dc:title>Slide 1</dc:title>
</cp:coreProperties>
</file>