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C4F-925D-437C-B8B3-A3B58B9E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0EF-62C1-4619-B94A-E280103D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B94-F657-413D-B1FD-9FF41E40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5B5-CB41-4A33-9CA5-96206B1C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D37-5EA4-42B2-9B46-3D79109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89A-5F03-4CA9-B505-69ABDFBE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A66-F5C7-419A-B52C-EA2DA94C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6F3-223E-47D8-BBCA-BDF734C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349-BBEB-4117-B3CF-F2F7F0CB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7B3-E2F9-4139-87E5-F81A7EB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E3B-3E80-4B06-BB1C-798DD359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E1A-F78A-4416-87B1-31AB9E4E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DD38-047C-45F7-BCFD-AF23B77FB8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920" y="836280"/>
            <a:ext cx="7632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SYU KUBUSYU  8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Face to 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oobona busyu b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syu bwa-Jesu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bulemu bwa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kukkala kwa-Taat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196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oobona busyu b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kalangane aw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bulemu bwakwe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oobona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tukwe netwakabo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kaswiilila bu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busiku bwas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oobona kabot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oobona busyu b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kalangane aw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bulemu bwakwe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oobona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zuba bwakubotel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oobona bulem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intu zibi ziyoom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yoosyala zibot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oobona busyu b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kalangane aw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bulemu bwakwe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oobona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syu kubusyu bwa-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oobonana ku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oomulumba Muv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Mwami mupa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oobona busyu b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kalangane aw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bulemu bwakwe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oobona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04:46:12Z</dcterms:created>
  <dc:creator>Jonah</dc:creator>
  <dc:description/>
  <dc:language>en-US</dc:language>
  <cp:lastModifiedBy>ADMIN</cp:lastModifiedBy>
  <dcterms:modified xsi:type="dcterms:W3CDTF">2015-12-03T13:47:57Z</dcterms:modified>
  <cp:revision>5</cp:revision>
  <dc:subject/>
  <dc:title>PowerPoint Presentation</dc:title>
</cp:coreProperties>
</file>