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508-3959-44CF-A3AB-7C011629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E8D-ED70-42F0-901E-6FB4FD93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861E-A431-47DB-8D94-795D06F7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539-56A1-443A-B310-A0AD192E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FC6-A20E-4CF7-9E6F-9E25457C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9CEE-9E06-4090-8745-E0C3E829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6197-A62A-4727-8112-55C53324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27B-8FE4-42A7-89DB-8B38B14B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168-A7F4-43E0-87FB-48823411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60D-B88C-409D-AE99-D878E9C5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F93-9CAF-45FF-BB65-E4ADADF0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95A-9C37-4140-AF7B-AA6BD382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80F5-BDBA-4792-A5A5-63B4051CF98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00000" y="2565000"/>
            <a:ext cx="734400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yandisya mu-malund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tanta mazuba 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yanda kukomba ly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za ndikwele k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38 NDAYANDISYA MU-MALUNDU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Tune: Higher grou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eza ndikwele im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kukondwa kwak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Cilawo cilamfu ec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eza ndikwele k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siyandi kukkala aan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takondi alayoo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nji balayanda okun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bo ndayanda k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eza ndikwele im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kukondwa kwak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Cilawo cilamfu ec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eza ndikwele k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yanda kuteelele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aa saatani ulandipenz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bondakondwa kuli-Le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lakwiinka k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eza ndikwele im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kukondwa kwak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Cilawo cilamfu ec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eza ndikwele kujul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20:04:52Z</dcterms:created>
  <dc:creator>Jonah</dc:creator>
  <dc:description/>
  <dc:language>en-US</dc:language>
  <cp:lastModifiedBy>Jonah</cp:lastModifiedBy>
  <dcterms:modified xsi:type="dcterms:W3CDTF">2015-02-14T20:14:29Z</dcterms:modified>
  <cp:revision>1</cp:revision>
  <dc:subject/>
  <dc:title>238 NDAYANDISYA MU-MALUNDU Tune: Higher ground</dc:title>
</cp:coreProperties>
</file>