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393-7802-451A-8815-4ED88CFB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CF1-AA5C-434E-95FF-F51189CD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1D4-F840-4AB5-A3D1-89B1898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41F-8843-491D-9D3C-E5F5BC16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F45-A2A1-418F-A69A-834873E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E30-7444-4C21-85A9-62276F64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031-C907-488C-A8A5-F925133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298-B850-42F7-A92F-39B03D9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CD6-9FA5-4FD7-B8CB-36DDFB6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3D7-FFF6-4C62-A4E5-724BC9F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279-EFE0-45C6-96D7-2A852E4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334-006F-49E7-AB82-73E87E4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BAE-74DE-45BC-AEB4-828EC6B28E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281 Ndiyandoobona Jesu Mwami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Must I go empty hand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oobona Jesu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ndoobona Mufutu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kooyooba amuntu om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windaleta kuli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no ndiinke buti 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entajisi bamwi ban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yoousa loko l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likulenga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kooyoowa lufu m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dafutulwa 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ndalikulenga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indi cakukamba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no ndiinke buti 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entajisi bamwi ban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yoousa loko l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likulenga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asowa ciindi c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o ndali muto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o ndiyooima bu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mbele lya-Mwami wang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no ndiinke buti 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entajisi bamwi ban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yoousa loko l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likulenga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buke noba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sungilizye ba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lutanasika luf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kajane basand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Ino ndiinke buti k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entajisi bamwi ban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diyoousa loko lo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likulenga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9:49:36Z</dcterms:created>
  <dc:creator>Jonah</dc:creator>
  <dc:description/>
  <dc:language>en-US</dc:language>
  <cp:lastModifiedBy>ADMIN</cp:lastModifiedBy>
  <dcterms:modified xsi:type="dcterms:W3CDTF">2015-12-11T10:04:34Z</dcterms:modified>
  <cp:revision>4</cp:revision>
  <dc:subject/>
  <dc:title>281 Ndiyandoobona Jesu Mwami Tune: Must I go empty handed</dc:title>
</cp:coreProperties>
</file>