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96F-9E87-4E2F-89CC-06C710A0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32C-67FC-4B22-AF54-30EFAB21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620-B2C8-4814-8F1C-0B018F2C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384-7CF7-41F8-8CBB-E68642D4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7F7-CD81-4BAB-A358-642A50FA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15A-001E-40BA-86D8-2DF64740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63A-48E9-4080-B3B9-1C57A34A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F23-FFDB-4D9C-837A-7AF3E9E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605-6C89-47D1-9921-D8AE7206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733-0B82-4543-8CF4-B90B74C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2E2-CA9E-42AD-B1D3-727528D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DE0-D00B-423C-8EC2-CE947BE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E58A-5C97-4DEA-BE88-D62262120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ciba Cang’ombe - # 54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way in a Ma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uciba cang’ombe takukwe bulo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kokwazyalwa Jesu Mwami wanyika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ujulu nyenyezi zyamumwekela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ilido cang’ombe mbobulo bwakw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533520" y="304920"/>
            <a:ext cx="83818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yalila ing’ombe wabuka mwana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atalili Jesu mwana mucece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dakuyanda Jesu kolanga ndim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dilele O mwami masiku o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762120" y="674640"/>
            <a:ext cx="76197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swena andime Jesu ndakomba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waafwi andime lyoonse alyoonse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longezya bana boonse munyika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tole kujulu tukkale anduw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6:08:23Z</dcterms:created>
  <dc:creator>Guest</dc:creator>
  <dc:description/>
  <dc:language>en-US</dc:language>
  <cp:lastModifiedBy>Jonah</cp:lastModifiedBy>
  <dcterms:modified xsi:type="dcterms:W3CDTF">2015-01-01T19:56:44Z</dcterms:modified>
  <cp:revision>4</cp:revision>
  <dc:subject/>
  <dc:title>Slide 1</dc:title>
</cp:coreProperties>
</file>