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DC99-7D40-4C1C-92E4-2FD00BCDA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9BA5-A081-43E7-BDF0-F93D365E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1BD5-C7A2-446C-8A88-03911B14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534D-E18D-47DB-BE09-2E3D844F3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5E15-AE95-4358-B56B-A872B318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941B-D911-4119-BA25-20B933B8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7724-F968-4C87-A220-5A46B302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215E-0088-42AD-A1DD-321ECA88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61A6-AA48-49CB-9518-1550022A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0EDB-4988-4DA0-AF11-01E16A51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E1E5-CA93-40CD-8107-E9EBA3EC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AF3B-D403-490D-A23D-AE3DC878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CA6A-C0E8-4EC6-95CC-A62086C7F36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271 Muyume Nobakwesu</a:t>
            </a:r>
            <a:br>
              <a:rPr sz="3200"/>
            </a:b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Tune: Stand up! Stand up for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1413000"/>
            <a:ext cx="8496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Muyume nobakwesu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Muli basilumamba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Amuzibweze zyoonse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Zya-Leza zyakulwisy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Ngonguwe Mwami wesu, ulatusololela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Kubasinkondonyina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Boonse mbetuyoozund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Lusyomo mulubwez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ibe intobo yan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same lufutuko lube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gowani yan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Ipanga lyakulwis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go-Muuya ngomwapegw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gonguwe umuyumy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kulwa kwanu ly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Inguzu zituyumy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zizya-Jesu ilwak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wasyoma nguzu zyan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yoonse mulakuzundw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tumukakatil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ulwisye basinkond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oonse balakuzundw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wa-Leza Mwami wes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yume nobakw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koili nkondo sun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Ijunza mulakumvw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Inyimbo zyabazund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uzunda uyoojan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ukkalo kuli-Lez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li-Jesus Muzund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nooyookkede ly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7T09:01:47Z</dcterms:created>
  <dc:creator>Jonah</dc:creator>
  <dc:description/>
  <dc:language>en-US</dc:language>
  <cp:lastModifiedBy>Jonah</cp:lastModifiedBy>
  <dcterms:modified xsi:type="dcterms:W3CDTF">2015-02-17T09:22:39Z</dcterms:modified>
  <cp:revision>3</cp:revision>
  <dc:subject/>
  <dc:title>271 Muyume Nobakwesu Tune: Stand up! Stand up for Jesus</dc:title>
</cp:coreProperties>
</file>