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C9F-7877-44DD-9219-6E5245C2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DAA-3588-4DD6-809C-C02629A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706-6328-49E7-B33E-14B7638D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D55-02BF-488D-8737-5E80AE68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B60-72C8-4094-8F4C-2E9CF90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B36-DE9B-486C-9947-06AEF084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147-4DD8-4D2D-AF28-9B13DB6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877-BC1D-4899-B32E-3E9C34A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8F2-8C81-47E4-9BFD-1AAD70A3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C46-EFAC-400D-8A36-453E743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A9F-6E43-4442-95A5-EAA376C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35F-E1D7-43F7-8792-E0919F7B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7B54-492C-48F7-996A-68A23196F4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 21c Impeta Izool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mpeta izoolila, izolila M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yika, nyika izoozung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nguzu zyakw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amusyomi, batamusyo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simamambe, basimamam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amuyandi, batamuyan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boola, ulaboola, ul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wa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mumak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tu balowa, bantu bal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kamuboni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yoomvwa kwiimba kwal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5:46:44Z</dcterms:created>
  <dc:creator>Jonah</dc:creator>
  <dc:description/>
  <dc:language>en-US</dc:language>
  <cp:lastModifiedBy>Jonah</cp:lastModifiedBy>
  <dcterms:modified xsi:type="dcterms:W3CDTF">2015-03-15T06:15:16Z</dcterms:modified>
  <cp:revision>3</cp:revision>
  <dc:subject/>
  <dc:title>PowerPoint Presentation</dc:title>
</cp:coreProperties>
</file>