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43AA-763D-409D-95CC-851DBB88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C20C-208A-422A-B7A5-CA259D55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3200-EC9A-4CF7-AA14-D68B9BD8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8DE0-6EA9-4DF7-847B-B5A90283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F2A4-FD82-4356-8FFF-8D5715D2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EFFA-304F-4A50-BC81-B0FB5E0A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82A1-4F63-47BB-88F1-8446E65A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0FA-1E15-4B9C-93BA-F2F21094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1159-73C4-412A-9403-5A0E44E4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53EB-A5CA-4CA8-B012-0C52FF53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0E11-A36A-408D-B507-D4652298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E10C-6EE6-4EAA-ABE3-64E7938F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C811-1079-4F94-B712-0A998555A66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331 Amuboole azipeg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1916280"/>
            <a:ext cx="770580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muboole azip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li Jesu muvuni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mulipe inywe nyo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yakumutambu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muboole azipego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zinono ziyandik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muswaangane asweb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tulipe nkwabed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mulete ciindi can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nguzu zyanu zy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Zibelesegwe a-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kaambo muleeled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muboole azipego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zinono ziyandik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muswaangane asweb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tulipe nkwabed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katusyomezya ku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yakutulelek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aa twasyoma ijwi lyak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yakutusolwed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muboole azipego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zinono ziyandik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muswaangane asweb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tulipe nkwabed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2:16:19Z</dcterms:created>
  <dc:creator>Jonah</dc:creator>
  <dc:description/>
  <dc:language>en-US</dc:language>
  <cp:lastModifiedBy>Jonah</cp:lastModifiedBy>
  <dcterms:modified xsi:type="dcterms:W3CDTF">2015-02-18T12:29:18Z</dcterms:modified>
  <cp:revision>2</cp:revision>
  <dc:subject/>
  <dc:title>331 Amuboole azipego</dc:title>
</cp:coreProperties>
</file>