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34F-8E1B-4337-8FDA-A4B7945E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E41-14AD-4445-A333-84E421CF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A15-912F-47F7-9DC6-D05C7F55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0E2-21C1-4473-ABB9-EBEDB017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8BB-C7B3-4944-AFFB-CF59D36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6FA-2E3A-44F6-A95E-98C1CBA1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A9C-015D-4F4F-A6C8-89D869A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182-3C31-414D-A3D4-5826BEF5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A29-9A1B-4F3F-90DC-ED1AF81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1DD-0C45-41F3-8389-4D36D89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4C9-4BAD-44B9-B5AA-203F96D5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70D-669F-4EBB-84D0-EF01FF5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AE4-E145-4143-BA68-2E54C89EF9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400" spc="-1" strike="noStrike">
                <a:solidFill>
                  <a:srgbClr val="ff0000"/>
                </a:solidFill>
                <a:latin typeface="Calibri"/>
              </a:rPr>
              <a:t>Syala Zibyabi  #: 1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Syaala zibyaabi, Jesu nguwang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Ndazisiya zy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Jesu ngu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Musinzo mulamf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kuzwa ansi a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Jesu wandikwela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Mutandisukusyi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Kuno ndiyookka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Jesu  nguwang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Zyaansi zilamana, zyoonse zimwaig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Zilanyonyaunwa, Jesu ng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Syaala owazibi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Syaala zyamasiku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Zyakandikatazya, zyandipenzya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Zyoonse ndazisow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Jesu ngu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Syaala zyoonse zyaansi, Jesu ngu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Boola zitamani, Jesu nguwang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Boola buumi bupya, Boola lutanga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Boola ziluleme, Jesu nguw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___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07:47:58Z</dcterms:created>
  <dc:creator>Jonah</dc:creator>
  <dc:description/>
  <dc:language>en-US</dc:language>
  <cp:lastModifiedBy>ADMIN</cp:lastModifiedBy>
  <dcterms:modified xsi:type="dcterms:W3CDTF">2015-12-08T14:37:39Z</dcterms:modified>
  <cp:revision>4</cp:revision>
  <dc:subject/>
  <dc:title>PowerPoint Presentation</dc:title>
</cp:coreProperties>
</file>