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ABE-0A4C-46E8-A07C-A43761EF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228-6EE8-4125-8FA9-CF6120F0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042-B9DF-422C-9D8C-E074D89B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B9D-ED3D-44BD-866D-9F7B2804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DFA4-9277-43BD-8014-8A3A19E8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5BD-8063-4D67-B70F-7DCF0354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81D2-CFC6-4736-B040-ECA1D5A1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3F8-13D2-4F3A-AFBF-110EFA16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82E-2AAC-4081-9ED7-08E88A0A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FE4E-2FC2-4FF7-97B9-94588290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C3F-94CA-4840-AE36-8BB63332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F4B-D2E8-4418-915A-CDCCD08E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5A80-DFD3-4154-8D88-2569882D6BE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334 Sena Jesu Ulaya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1773000"/>
            <a:ext cx="74880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ena Jessu ulayanda cip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lindi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oamba kuyanda kwako njakukuteele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ena Jesu ulayanda cip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lindi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lakupa ciindi ca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kubeleke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ena Jesu ulayanda cip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lindi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jakupa zyoonse nzen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lelekwe bamw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ena Jesu ulayanda cip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lindi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lakupa moyo wa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kaambo waamfwid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2:48:11Z</dcterms:created>
  <dc:creator>Jonah</dc:creator>
  <dc:description/>
  <dc:language>en-US</dc:language>
  <cp:lastModifiedBy>Jonah</cp:lastModifiedBy>
  <dcterms:modified xsi:type="dcterms:W3CDTF">2015-02-19T11:19:46Z</dcterms:modified>
  <cp:revision>4</cp:revision>
  <dc:subject/>
  <dc:title>334 Sena Jesu Ulayanda</dc:title>
</cp:coreProperties>
</file>