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49B-5D1C-4238-A8D6-BB6D8D3D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591-D8C1-4C42-AB15-1E9F92FE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FEE-D372-4944-9F54-B2868B93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414-931D-4200-B1D5-277C749C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59A-BCE9-4202-987D-1F25FCE2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884-26DC-4BE5-AB35-88558222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1A3-91D9-4D38-B2EC-A83772E8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2EE-193B-4247-83BC-ED9BCCB8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B6E-FBF7-4D2C-97B4-AA583F14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509-B7A4-4906-A193-0BF278A7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023-6D68-41FF-AACA-A20E4F62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B41-4C18-4F6B-AD50-1D0130C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C3F-999A-45FB-B71D-7050A2D48B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154 Ulainda Akufwamba</a:t>
            </a:r>
            <a:br>
              <a:rPr sz="40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Tune: All for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628640"/>
            <a:ext cx="7632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inda akufwam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o nkuli nkotiy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inzi nzila eey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joceenda anjiy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inda, Ulai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ya ko kujulu na?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inda akufwa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aliimi zuba p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yapasula lilabb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ebo tokabbila 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inda, Ulai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okakkali aano pe.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inda akufwa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uya kuli i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o kujulu tokanji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Otanasanduka, p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inda, Ulai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boola lili ino?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inda akufwa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aafwiifwi kufwa, M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iina ukutakwe cuumb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yoovunwa yebo 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Ulainda, Ulai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akusali kufwa, pe.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3:41:42Z</dcterms:created>
  <dc:creator>Jonah</dc:creator>
  <dc:description/>
  <dc:language>en-US</dc:language>
  <cp:lastModifiedBy>ADMIN</cp:lastModifiedBy>
  <dcterms:modified xsi:type="dcterms:W3CDTF">2015-12-08T07:01:36Z</dcterms:modified>
  <cp:revision>4</cp:revision>
  <dc:subject/>
  <dc:title>154 Ulainda Akufwamba Tune: All for Jesus</dc:title>
</cp:coreProperties>
</file>