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6F7-405B-4756-AEA2-08148748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C3E-A220-43C8-8DA4-39C7712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B5E-C6B5-401A-9C6A-2CECDE32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0D9-510B-4A80-A465-554D865B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525-58F9-4117-B16A-935DF84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A62-0C4E-4500-B0DB-DD60E65C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687-BCE5-41A9-BBA3-FFE80D2E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AA-FBB5-441D-A222-32994BE9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FD6-5942-4006-A5C9-CCF30545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503-9970-4D23-83FB-4A99B67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235-C36C-43B3-9713-36DCB65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51E-696E-4F16-8BDE-74B5E90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EC5C-9BDE-47F8-B81B-00BA0EF56F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95 Makumbi Taamo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The Unclouded 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848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munzi kula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kabot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 kwiina miso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uli munzi omuya m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kumbi taamo, taa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na misozi aku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daambila kwiin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li munzi omuya muju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kuli balongwa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kafwa muli Jesu 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masamu alim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i munzi omuya m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kumbi taamo, taa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na misozi aku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andaambila kwiin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li munzi omuya muju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Mwami wab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a cuuno mumunzi om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jisi Bwami bupati-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uli munzi omuya m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kumbi taamo, taa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na misozi aku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andaambila kwiin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li munzi omuya muju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daambila bantu base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wiimba inyimbo m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na misozi naab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uli munzi omuya m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kumbi taamo, taa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wiina misozi aku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andaambila kwiin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li munzi omuya muju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8:07:05Z</dcterms:created>
  <dc:creator>Jonah</dc:creator>
  <dc:description/>
  <dc:language>en-US</dc:language>
  <cp:lastModifiedBy>ADMIN</cp:lastModifiedBy>
  <dcterms:modified xsi:type="dcterms:W3CDTF">2015-12-11T12:41:11Z</dcterms:modified>
  <cp:revision>4</cp:revision>
  <dc:subject/>
  <dc:title>295 Makumbi Taamo Tune: The Unclouded day</dc:title>
</cp:coreProperties>
</file>