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990-A4E7-4C06-96DE-ACFB56BE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2CD-A020-4F97-A325-007764F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D3E-1CDF-4352-A841-2BC193E4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DF3-79BA-4289-B6DA-35059E08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682-D321-4947-AC08-1F58380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762-B205-425C-816F-FCDA7BE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9D9-2B51-4E33-80EC-DF58EFA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F4B-087C-45DA-A5A6-2BC6CA3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D5B-3587-48D3-92F2-5609DDC1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A06-C8D3-4436-8C4D-01CF125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DB3-36B8-42E6-AB3E-CAC36C8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9DC-A4B8-4511-AA99-E45B832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6FC-9993-4858-940C-5EC0529C93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19 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Tune: Called to the F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aitwa kwi pobwe lya-Mwam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ukkale ali bantu bak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a kubabuti kuli is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, Musa, 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kuba buti toonse, 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, mus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kuba buti toons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misini akali mamv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-Mami, wakatufwid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kwaya kututondezya coolwe, Anjil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, Musa, 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kuba buti toonse, 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lakukomana nab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vumbidwe ngubo zyabwing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labota, twakoma toons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jil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, Musa, 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kuba buti toonse, 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waandanyizigwa kutama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uninwa bayakulil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iindi cakupengesya eco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jil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Anjile Mwami, Musa, Anjile Mw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Tulakuba buti toonse, Anjile Mwa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wami, tupe luzyalo lwa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ku nyonena, nituli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Kuti tutakuyoowi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njil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9:24:31Z</dcterms:created>
  <dc:creator>Jonah</dc:creator>
  <dc:description/>
  <dc:language>en-US</dc:language>
  <cp:lastModifiedBy>ADMIN</cp:lastModifiedBy>
  <dcterms:modified xsi:type="dcterms:W3CDTF">2015-12-04T14:03:26Z</dcterms:modified>
  <cp:revision>6</cp:revision>
  <dc:subject/>
  <dc:title>PowerPoint Presentation</dc:title>
</cp:coreProperties>
</file>