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06E-7910-4A9D-95BB-54D0F946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315-E5C2-4224-91E8-780B921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F45-A37B-476D-AD23-1CE54E8F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8DA-DC47-455F-A242-33C1D607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2A2-48E3-4587-90FB-89D565A2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E85-F2E6-4415-BDEE-C3B5262E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9A8-12D0-4D2C-8E8D-14FBA704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71D-4E87-43FD-AD27-058EF3C4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7B0-EAEA-464E-ADF1-F971973F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339-E26A-4363-9CBD-1C5AEEE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CA5-F6F3-4147-AA80-3D307F98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48E-1320-421A-ABCE-53218BCE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5295-92B7-41BA-979C-7592C8F32E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280" y="1268280"/>
            <a:ext cx="6761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su muyandi wangu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diyube kwako  Mwami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kunjila mapenzi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diyube mucimvul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asimpe wandiyanda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akasiya kujul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kaambo kazibi zyangu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ambula moyo wan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3 JESU MUYANDI WANGU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Jesus Lover of my so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akwe umbi uugwasy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unze kwako olikk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tandifutatili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onoondibamba lyoons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usyomo lwangu lyoons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abika kulinduw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lazya buumi bwang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-Muuya Uusala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uwe olikke Krist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gwenyanda ciindi coons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oimika bawid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oumuzya bali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osilika bacisw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osololela boof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isofweede, ndimubi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osanzya moyo wangu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6:47:40Z</dcterms:created>
  <dc:creator>Jonah</dc:creator>
  <dc:description/>
  <dc:language>en-US</dc:language>
  <cp:lastModifiedBy>ADMIN</cp:lastModifiedBy>
  <dcterms:modified xsi:type="dcterms:W3CDTF">2015-12-09T09:19:14Z</dcterms:modified>
  <cp:revision>6</cp:revision>
  <dc:subject/>
  <dc:title>203 JESU MUYANDI WANGU Tune: Jesus Lover of my soul</dc:title>
</cp:coreProperties>
</file>