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7F7-0577-4861-9444-38B3D890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6A2-C257-473C-B0C9-D01B11B8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51C-F400-431D-B0FF-D034FBA5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8EF-B45C-4607-8982-D22FF9A7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BD6-898A-4339-A81E-0DB1BF2C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977-200C-455B-88D2-71FAE324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C39-97C5-45F3-8B4E-D184C6D4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870-13AE-4839-A485-82B3E9F6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F14-062E-4EC9-81EB-B1D0E678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0B3-90D1-4C6B-9E41-8E0316C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0BC-86B4-4ACC-826B-559F4023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4D2-76A3-41FE-8BB2-E605FFE1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890F-BF26-4876-9839-6248EE77267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6564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kwesu atuuyum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kati kamapenz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u Jesu ngotusyo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aambo ngu-Siluzyal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67 BAKWESU ATUUYUME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Brothers, Lets be st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za, Ko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Utupe nguzu, Mwam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za, Ko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Utupe nguzu,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tube basinkomb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cita nzila y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zibi tuzizun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bote cisi 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za, Ko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Utupe nguzu, Mwam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za, Ko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Utupe nguzu,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yoowa basikond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zimo ilam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mutembuule 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onse tobansi aa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za, Ko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Utupe nguzu, Mwam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za, Ko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Utupe nguzu,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zundwe bantu b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zwanga alaman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kwesu tuyandan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bami bazumi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za, Ko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Utupe nguzu, Mwam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za, Ko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Utupe nguzu,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21:46:35Z</dcterms:created>
  <dc:creator>Jonah</dc:creator>
  <dc:description/>
  <dc:language>en-US</dc:language>
  <cp:lastModifiedBy>ADMIN</cp:lastModifiedBy>
  <dcterms:modified xsi:type="dcterms:W3CDTF">2015-12-10T14:36:02Z</dcterms:modified>
  <cp:revision>2</cp:revision>
  <dc:subject/>
  <dc:title>267 BAKWESU ATUUYUME Tune: Brothers, Lets be strong</dc:title>
</cp:coreProperties>
</file>