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C07-DBF2-4AAC-B0D3-CE78793A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7CB-D135-4A7B-98C5-D1EE74B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EB5-1197-4B8F-88F6-5AEB4A31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909-B073-40FF-B0B9-D13F36DB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581-2F7D-4BE9-BF63-EA2C3E49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51A-FAA4-439B-87E1-B5EFD256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F36-CB26-4E68-B469-5F6167D2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414-333F-4386-AC5D-67EE24C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BD7-8FED-421C-86AA-0C033FFD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246-E330-431B-994D-FA13589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F1B-FDAF-4657-A5EA-8622DD2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3A8-9CA4-4B08-B962-3C65ECF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319-F1D6-4948-9A7D-3FE7562260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844280"/>
            <a:ext cx="7161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pa zyoonse kuli Jesu, mubili a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yeeyo yoonse amaj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zuba oonse aa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pa zyoonse kuli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zuba oonse aangu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67. NDAPA ZYOONSE</a:t>
            </a:r>
            <a:br>
              <a:rPr sz="4000"/>
            </a:br>
            <a:r>
              <a:rPr b="1" i="1" lang="en-US" sz="2900" spc="-1" strike="noStrike">
                <a:solidFill>
                  <a:srgbClr val="ff0000"/>
                </a:solidFill>
                <a:latin typeface="Calibri"/>
              </a:rPr>
              <a:t>Tune: All for Jesu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mupa maanza aang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cita majwi 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ulu aangu ames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beleka ku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pa zyoonse kuli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eleka ku-Mwam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ndabona Mufutul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siya zintu zi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mutobela alikk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muyanda alikk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pa zyoonse kuli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muyanda alikke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yando lwakwe ndupati, Wakandiyanda l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Mufutuli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fwa kundipon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pa zyoonse kuli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fwa kundiponya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4:38:06Z</dcterms:created>
  <dc:creator>Jonah</dc:creator>
  <dc:description/>
  <dc:language>en-US</dc:language>
  <cp:lastModifiedBy>ADMIN</cp:lastModifiedBy>
  <dcterms:modified xsi:type="dcterms:W3CDTF">2015-12-08T09:07:41Z</dcterms:modified>
  <cp:revision>3</cp:revision>
  <dc:subject/>
  <dc:title>167. NDAPA ZYOONSE Tune: All for Jesus</dc:title>
</cp:coreProperties>
</file>