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DA4-3F13-4FD7-9568-13B51F4F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C84-4A6D-4F61-8580-998CF7C6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D31-7AE2-4ACB-A3D6-3F4C214A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682-8017-4ABD-8446-E4D00C39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9C0-42E6-4F6D-9CB9-E7FADEDE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347-539F-4F11-9B52-A39FFD26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BBF-B7E0-4BD7-9B14-6770E220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789-7F46-440F-8F5B-FA4A398A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3C0-A30D-4AD6-ACDF-8ABA3A5B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484-18C0-4FC1-980E-4AF6CA6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0A6-4DA8-4EA0-A624-BC13A13C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80E-D4D9-49E2-959C-FABDD4B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B49C-59EE-442C-B9A4-5817CA6D3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kulumbwe  # 73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allelujah, what a Saviour!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ategwa sikuusa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wana wa-Mwami Leza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anununa babisyi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kulumbwe, Mufutu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212840" y="1219320"/>
            <a:ext cx="7245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guwe watuyumwid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soni azibi zyesu; Walekelela ndis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kulumbwe, Mufutul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066680" y="1216080"/>
            <a:ext cx="70866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kafwa a-ciingan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wamana!” wakakwiil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no uli kuju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kulumbwe, Mufutul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7:53:34Z</dcterms:created>
  <dc:creator>Guest</dc:creator>
  <dc:description/>
  <dc:language>en-US</dc:language>
  <cp:lastModifiedBy>ADMIN</cp:lastModifiedBy>
  <dcterms:modified xsi:type="dcterms:W3CDTF">2015-12-03T09:40:00Z</dcterms:modified>
  <cp:revision>8</cp:revision>
  <dc:subject/>
  <dc:title>Akulumbwe - #73 Hallelujah, what a Saviour! </dc:title>
</cp:coreProperties>
</file>