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001-1018-4450-8F03-B7767565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A4B-44BB-4230-B366-AAC75B87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DC1-6D7A-46A5-AC65-B60AA0BE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E83-FD7B-4C99-98BC-68C0AC60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239-7981-47CB-AEBF-CD194DA1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645-54EC-4597-BE87-E6FFC636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566-5EE7-4203-9CC7-24811493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5A8-601C-412A-919F-94E4FA0E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5AE-DDF7-457F-BF90-3235A7E7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DB6-C290-4794-8434-539A909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730-E0E1-40A5-9F08-B478E388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CA2-6590-46F9-9233-70390C15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A874-0BA9-48D7-9C2C-216523F2BB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27 Ndakutuma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So I send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777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 kuyoondibeleke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kuba tokajani bulumb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kuba tokayandwi, tozibil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 muluyando l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uuli ndatumwa Taat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 ugwasye bapenge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anga batyokede mumyo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bweza mikuli yabalemenw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 kupengela ndim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uuli ndatumwa Taa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 kusiya munzi w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batolela makani a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bantu bacikkede mumudi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 kuyooleta bamw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uuli ndatumwa Taa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 kuyoozondwa kuban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umu myoyo, bataswiili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sowa buumi bwa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k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, ndiyooba and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uuli ndatumwa Taa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ut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1:33:55Z</dcterms:created>
  <dc:creator>Jonah</dc:creator>
  <dc:description/>
  <dc:language>en-US</dc:language>
  <cp:lastModifiedBy>Jonah</cp:lastModifiedBy>
  <dcterms:modified xsi:type="dcterms:W3CDTF">2015-02-18T11:48:12Z</dcterms:modified>
  <cp:revision>2</cp:revision>
  <dc:subject/>
  <dc:title>327 Ndakutuma Tune: So I send you</dc:title>
</cp:coreProperties>
</file>