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38EB-9384-41DB-B7D5-75F62C2E5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1811-67CA-414F-AE83-480D537E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8DD6-290D-4846-BA17-D16EE733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3DC0-2804-4567-885F-3F5B74AEF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EEDB-0649-4C8B-B90C-26EF70F3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BF60-1F7D-4B38-BB12-F4842646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901E-023E-4DDA-92B6-FC0331A1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A956-E3D8-40EE-AE6E-F1309CC8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7F28-D6D3-441B-924B-F40EACF1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D901-7F6E-49C8-8126-D8013755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71A1-4C9F-44D5-8E8A-B1869042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B1BA-1CB5-48C6-ACB3-7E5E6F5D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0ABF-EA55-44BC-A649-A70BD86F974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39640" y="2349000"/>
            <a:ext cx="806472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 Ngooyu Jesu, Ngooyu Jes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gooyu Jesu een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eno ngooyu Jes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gooyu Jesu een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39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46 NGOOYU JESU</a:t>
            </a:r>
            <a:br>
              <a:rPr sz="4000"/>
            </a:b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Tune: Come to Jes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8864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. Usilikwe, Usilikwe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Usilikwe eeno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eno usilikwe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Usilikwe eeno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. Akuponye, akuponye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kuponye een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eno akupony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kuponye een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4. Uzumine, Uzumine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Uzumine een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eno uzum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Uzumine een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5. Kokumbila, kokumbila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okumbila een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eno Kokumbil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okumbila een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6. Ateelele, ateelele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teelele eeno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eno ateelele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teelele eeno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7. Uleenguzu, uleenguzu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Ulenguzu een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eno uleenguz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Uleenguzu een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8. Akusanzye, akusanzye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kusanzye eeno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eno akusanzye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kusanzye eeno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9. Syoma nguwe, syoma nguwe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yoma nguwe eeno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eno syoma nguwe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yoma nguwe eeno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10. Boola kwakwe, boola kwakw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Boola kwakwe eeno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Eeno boola kwakw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Boola kwakwe eeno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12:44:43Z</dcterms:created>
  <dc:creator>Jonah</dc:creator>
  <dc:description/>
  <dc:language>en-US</dc:language>
  <cp:lastModifiedBy>Jonah</cp:lastModifiedBy>
  <dcterms:modified xsi:type="dcterms:W3CDTF">2015-02-14T14:33:28Z</dcterms:modified>
  <cp:revision>3</cp:revision>
  <dc:subject/>
  <dc:title>146 NGOOYU JESU Tune: Come to Jesu</dc:title>
</cp:coreProperties>
</file>