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6A4F-4409-4439-A393-7747887B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5B9-997B-453F-8307-82013C8A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97ED-6814-4F01-9B1C-0A70EF2F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FBB7-4424-41A6-B974-53934418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25D8-0646-4523-8F9F-7209308D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3C5-B741-4B9E-92F2-CD01E04B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24D-BEE2-4A71-AD97-C3D9C19D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2346-E4BB-486A-AEB0-E45045F8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D68-2BF3-4557-B995-9451BE8D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B04-C6B4-4C65-BF6F-157D6258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EC5-A7DB-42AB-B765-E084FE81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97DB-E20D-4567-9300-35CB53CE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96A1-A83E-4F6F-A3DF-EC99B5AD878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9640" y="227628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pobuli busena mupobwe pat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bulemu bwa-Leza mupat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jila njila mpobuli buse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jila njila mpobuli buse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32. MPOBULI BUSENA</a:t>
            </a:r>
            <a:br>
              <a:rPr sz="4000"/>
            </a:b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Tune: Yet there is roo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cilipati mane liyoobb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izinzimwa icili milamf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jila njila mpobuli buse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jila njila mpobuli buse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bapobweda mucijulid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ndo-zulila njila ulatambw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jila njila mpobuli buse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jila njila mpobuli buse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yango ngooyu ucijulid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wambaana njila bali kulindid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jila njila mpobuli buse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jila njila mpobuli buse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47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buli pobwe eeli lyacitilwa ndu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47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wataliwo sena uzoonjil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47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47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jila njila mpobuli buse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47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jila njila mpobuli buse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47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ba kujulu balakoobo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babo baita ati koboo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jila njila mpobuli buse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jila njila mpobuli buse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tamuki pe mayo, uzool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tujulile Mwami uyookak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jila njila mpobuli buse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jila njila mpobuli buse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yo, mayo kwabula buse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yo, mayo kwabula buse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jila njila mpobuli busen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jila njila mpobuli buse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0:39:15Z</dcterms:created>
  <dc:creator>Jonah</dc:creator>
  <dc:description/>
  <dc:language>en-US</dc:language>
  <cp:lastModifiedBy>ADMIN</cp:lastModifiedBy>
  <dcterms:modified xsi:type="dcterms:W3CDTF">2015-12-07T10:35:38Z</dcterms:modified>
  <cp:revision>3</cp:revision>
  <dc:subject/>
  <dc:title>132. MPOBULI BUSENA Tune: Yet there is room</dc:title>
</cp:coreProperties>
</file>