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50D-C77B-4079-9DD3-8EA703DC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66B-B2A1-4F0E-BA20-19C99775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729-5D28-4687-8EDC-FF58EAB4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282-0E42-49BF-95FA-5F3CDD0F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BD3-0E9E-4EDD-852E-FB502849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C19-90DE-4381-8279-B32E532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6F7-6EA6-4E22-84E3-9E57D1B9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CB6-1C4F-4C6E-9306-6D7AFAE1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3F0-F3B3-4F50-9801-F4162DA5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92A-23E2-40DD-A540-391AE59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A91-7419-4426-947D-D9A64326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7D5-1D7C-452B-9733-3B93FBB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328F-69CE-45CA-B82D-E48D1009F8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224 Ngumune Wii Munyika yabubi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une: Peace perfect pe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79912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 Ngumune wii munyika yabu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 Jesu, ndisalazye moy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. Ngumune wii mapenzi aliw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ele mukati ndatontolel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560" y="549360"/>
            <a:ext cx="8435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3. Ngumune wii beenzuma tabaw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yo Jesu ngutukkal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4. Ngumune wii nsizi cilikuz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yo ndili mukusyoma J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5. Ngumune wii taakwe cindiyoo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 Jesu undivuna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8:19:54Z</dcterms:created>
  <dc:creator>Jonah</dc:creator>
  <dc:description/>
  <dc:language>en-US</dc:language>
  <cp:lastModifiedBy>Jonah</cp:lastModifiedBy>
  <dcterms:modified xsi:type="dcterms:W3CDTF">2015-02-14T18:30:45Z</dcterms:modified>
  <cp:revision>2</cp:revision>
  <dc:subject/>
  <dc:title>224 Ngumune Wii Munyika yabubi Tune: Peace perfect peace</dc:title>
</cp:coreProperties>
</file>