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C3A-E526-410E-AA6A-A483827C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2E0-9C21-452F-BAE2-7C88927C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B2C-BD24-4B6A-8564-327F5E54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A2E-4816-451C-B1E7-896B1E5F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70D-E3CB-41A9-B7EB-1A965C9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200-D8D3-497A-89BA-E539F1AE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AAE-ADBE-464B-8945-7FD693A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DC0-C32C-4FA3-A32C-1E480550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348-91F7-449F-9499-DCC26FF8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DB0-A046-4482-B943-38B09A6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B02-C7CB-498A-905D-BA34F3B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E46-D467-4E04-B619-CF2A24B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52A7-B197-4C3A-9B8F-CAEBC166F1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C 20C Ivange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Ivangeli ivangeli, ivange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lileempuwo. X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No-BaKristo amutole majwi aaya. X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Ivangeli lileempuw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Twati “Jesu, Jesu, Aleluya!” x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Ivangeli lileempuw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5:37:40Z</dcterms:created>
  <dc:creator>Jonah</dc:creator>
  <dc:description/>
  <dc:language>en-US</dc:language>
  <cp:lastModifiedBy>Jonah</cp:lastModifiedBy>
  <dcterms:modified xsi:type="dcterms:W3CDTF">2015-03-15T05:46:35Z</dcterms:modified>
  <cp:revision>1</cp:revision>
  <dc:subject/>
  <dc:title>PowerPoint Presentation</dc:title>
</cp:coreProperties>
</file>