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3E0C-8F67-4B1E-8EBC-8BDEB62B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7789-E3C5-42DE-B6B4-C26222E0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850-B152-4F91-950D-A5D7B951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861-F0BC-443A-9FD7-CFB6C433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C7B-15B9-4BDC-A162-5AE23944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BCCF-CF89-4B0E-9627-A8552325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4E00-8021-4F40-96A4-7B96AB5A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18E2-5792-4780-885C-79CC0330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E181-2CA1-469D-8AEE-36DD5FA0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76C3-DEBB-49C8-B83A-ED0E5F25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55B1-EBE0-42FA-A5AD-465AD1C9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BF91-E1E2-4200-958E-280F9AF7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A1C0-8F55-466E-8667-F6FD63443AF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 6C Atulibambe Lyoon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2133360"/>
            <a:ext cx="7920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tulibambe lyoonse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atubwizi buzu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wakutolwa kujul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munzi wa-Leza Mwami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yoobona Le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cuuno c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yooitwa amazi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yootolwa kujul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tuyeeye buzu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wakutolwa kujul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-Jerusale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munzi wa-Leza Mwa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abo bataluleme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yoosyaala anz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mudima utaambw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yoopya mumulil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abo balulem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yookkala a-Le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-Jesu Mwana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munzi utakwe zib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eno iswe t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wakalipa Ku-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tuyeeye buzu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wakumana kweeyi nyik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2T04:57:42Z</dcterms:created>
  <dc:creator>Jonah</dc:creator>
  <dc:description/>
  <dc:language>en-US</dc:language>
  <cp:lastModifiedBy>Jonah</cp:lastModifiedBy>
  <dcterms:modified xsi:type="dcterms:W3CDTF">2015-02-22T05:10:37Z</dcterms:modified>
  <cp:revision>2</cp:revision>
  <dc:subject/>
  <dc:title>C 6C Atulibambe Lyoonse</dc:title>
</cp:coreProperties>
</file>