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538-BBAA-44D7-8493-B50BFCF5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4A1-5D87-4DE1-9461-07FE60B8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9AB-5FC0-4FCA-A3A4-39E12FE7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324-3401-43EE-BB52-B8EC631B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FEC-7EBA-433A-87D2-79ABD755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E19-1FCA-44BF-BBD7-5CFCB3BB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A2E-4BCF-438D-84BE-BFD404DC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849-C387-499A-AC48-05323B5E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911-765F-434E-841E-86B83FBD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768-12A1-4326-A372-6181F74F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4CF-B858-4F73-A8EE-85464D1C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929A-A903-4F22-83E0-6290BB3B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1D74-82C4-4A61-B04F-610741FDAE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291 Atala Ziyoni</a:t>
            </a:r>
            <a:br>
              <a:rPr sz="40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Tune: Zion’s Hil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2060280"/>
            <a:ext cx="799308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zuba bubotu bwa-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laa milyongo itajal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apenzi aano asyaa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inka kumbi ndikakka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Ooko buumi oobu tabu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Ooko Leza alikke nguuli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uya wa buumi uyakwii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Eelyo ndikakkale atala Ziyon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ngelo bamvwiika kwii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Okuya kumbele aacuumb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nsimbi zyejulu zyamvwik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nono bwako ndabumv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Ooko buumi oobu tabu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Ooko Leza alikke nguuli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uya wa buumi uyakwii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Eelyo ndikakkale atala Ziyon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ilimo yaano imanin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weendeendi bwangu bulama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buumi bwaansi bukaf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sikooyoopenga kwama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Ooko buumi oobu tabu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Ooko Leza alikke nguuli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uya wa buumi uyakwii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Eelyo ndikakkale atala Ziyon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akumbi aasiya amwek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dima woonse watub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ikuli yabuumi yatul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waca lino ndalyookezy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Ooko buumi oobu tabu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Ooko Leza alikke nguuli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uya wa buumi uyakwii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Eelyo ndikakkale atala Ziyon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06:18:09Z</dcterms:created>
  <dc:creator>Jonah</dc:creator>
  <dc:description/>
  <dc:language>en-US</dc:language>
  <cp:lastModifiedBy>Jonah</cp:lastModifiedBy>
  <dcterms:modified xsi:type="dcterms:W3CDTF">2015-02-18T06:35:57Z</dcterms:modified>
  <cp:revision>2</cp:revision>
  <dc:subject/>
  <dc:title>291 Atala Ziyoni Tune: Zion’s Hill</dc:title>
</cp:coreProperties>
</file>