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A180-6ACC-4C80-AE71-8085876B1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0EC0-E1D4-4C3F-BF98-8993C29F1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5834-7F9B-4FFA-A807-F9FB3F099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DE7F-458A-4542-978B-15858AECB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83D8-114A-4AF1-9611-24633F65B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DD5F-E110-49E1-857D-86073BA73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C051-0F25-4B99-9182-7FA66FED4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718D-8FF5-4B6D-AC31-E21DAE10B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FAE8-C9A9-4CDA-90B7-6191D35FB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8089-2CBA-4FBF-B700-1B7493DC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3787-5F68-42F5-8349-D78BF2B9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F6A8-F794-40A7-A975-76696C5D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E5BF5-48C7-4271-BCED-D7C859ED0C0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99640" y="2420640"/>
            <a:ext cx="770436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webo tunyamuke toonse, Mukubisya kwesu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Katuya amoyo woonse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Kuli-Leza wesu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50. SWEBO TUNYAMUKE TOONSE</a:t>
            </a:r>
            <a:br>
              <a:rPr sz="3600"/>
            </a:br>
            <a:r>
              <a:rPr b="1" i="1" lang="en-US" sz="3600" spc="-1" strike="noStrike">
                <a:solidFill>
                  <a:srgbClr val="ff0000"/>
                </a:solidFill>
                <a:latin typeface="Calibri"/>
              </a:rPr>
              <a:t>Tune: Jesus died for Yo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Wakufwida Jesu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Wandifwida meb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Wabafwida bantu boonse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Beze bafutulw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ziyanza zyaansi aano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aziyomvwi cintu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ulayoowa, tulatija;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atusyomi cintu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Wakufwida Jesu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Wandifwida meb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Wabafwida bantu boonse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Beze bafutulw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tulange akujulu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Kuli-Leza wes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guwe wakacita julu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nsi eyi yoons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Wakufwida Jesu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Wandifwida meb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Wabafwida bantu boonse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Beze bafutulw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uyoolongezegwa swebo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kusika kwes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oonse tube akulumba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umyoyo yesu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Wakufwida Jesu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Wandifwida meb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Wabafwida bantu boonse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Beze bafutulw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__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4T13:17:52Z</dcterms:created>
  <dc:creator>Jonah</dc:creator>
  <dc:description/>
  <dc:language>en-US</dc:language>
  <cp:lastModifiedBy>ADMIN</cp:lastModifiedBy>
  <dcterms:modified xsi:type="dcterms:W3CDTF">2015-12-07T14:54:51Z</dcterms:modified>
  <cp:revision>3</cp:revision>
  <dc:subject/>
  <dc:title>150. SWEBO TUNYAMUKE TOONSE Tune: Jesus died for You</dc:title>
</cp:coreProperties>
</file>