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0FD-A76D-432D-8823-5BB3EF25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4E2-03EF-4D62-8071-138BE9A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96-BED2-44BA-BFB3-A9D1E0AF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1FF-EC93-409C-9B8C-CB9431EF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216-54E8-4765-B86B-E6606CE2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8D7-B3F9-4D65-B803-15C9920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39E-3BE5-4F0B-9D95-A974CA63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261-5333-4DC1-A030-BA949880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CB1-4C08-4F15-B8A8-6DE5ADB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A3A-B65E-4F1F-9C34-88CBD21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E22-2F09-4F2C-8F6D-F2CD95E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16D-DAFB-4FE0-8669-CF42AAE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12E-6904-4822-8B1C-4DE410A0DC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272 Nowatontaikwa Amapenzi Manji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Count your Bless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20464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atontaikwa amapenzi manj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akataazigwa zyamana 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a zilongezyo Leza zyaaku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lumba Leza nzyaakucit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a zilongezyo kuv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dauka nzyaacita Lez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zibale, cimwi ac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umba Mwam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ibi kutonga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emenwa mukuli wa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ingano ncoyumwide calem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a zilongezyo Leza nzyaakup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elyo ulauba mukuli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a zilongezyo kuv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dauka nzyaacita Lez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zibale, cimwi ac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umba Mwam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ibi kutonga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ekuba wabona abavub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eeya lubono ndowaamba kukon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la zilongezyo Leza nzyaakup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bono lwakujulu taluulik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a zilongezyo kuv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dauka nzyaacita Lez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zibale, cimwi ac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umba Mwam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ibi kutonga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mapenzi aayoosya utac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za ulaawe, uliyumye n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uya Uusalala ulakugwa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ne do wamaniz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weendo l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la zilongezyo kuv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Bandauka nzyaacita Lez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zibale, cimwi ac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umba Mwam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cibi kutongau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9:22:44Z</dcterms:created>
  <dc:creator>Jonah</dc:creator>
  <dc:description/>
  <dc:language>en-US</dc:language>
  <cp:lastModifiedBy>Jonah</cp:lastModifiedBy>
  <dcterms:modified xsi:type="dcterms:W3CDTF">2015-02-17T09:49:33Z</dcterms:modified>
  <cp:revision>3</cp:revision>
  <dc:subject/>
  <dc:title>272 Nowatontaikwa Amapenzi Manji Tune: Count your Blessings</dc:title>
</cp:coreProperties>
</file>