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803F9-9B54-448E-9AEA-A6FBABB7E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842BE-97B5-4382-8C1A-95D0621ED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4A636-17A9-4392-A71F-03F74D086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07AE9-D021-4CCF-A05D-5DB7D650E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45282-8D62-49B5-BCE9-BEA53AF39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330E2-7CDD-487A-8C8A-ADA246C76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865AE-F469-4136-B074-1246A24C9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72E92-9153-452A-B39F-5C92D2852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AC86E-FD76-464E-AA5B-81ADC1C6E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C60EE-1F56-4015-ABF4-15C0D2B4F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6ABD5-4DFF-4B9F-96B6-C449DCE28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4C061-8E99-4A0D-8748-664E6AC73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25AA0-5BE8-4BBC-B8B2-4FC6A58557F1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468000" y="2276280"/>
            <a:ext cx="835164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Kale ndakacita zibi,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Kakwiina kuyoowa;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Limwi ndakabona mweenzuma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Iwakandinyo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115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127. KALE NDAKACITA ZIBI</a:t>
            </a:r>
            <a:br>
              <a:rPr sz="4000"/>
            </a:br>
            <a:r>
              <a:rPr b="1" i="1" lang="en-US" sz="4000" spc="-1" strike="noStrike">
                <a:solidFill>
                  <a:srgbClr val="ff0000"/>
                </a:solidFill>
                <a:latin typeface="Calibri"/>
              </a:rPr>
              <a:t>Tune: Oh, the lamb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Wakafwida a-Kalivali, Andisungul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Pele wakazwa kubafu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Andiimin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Wakankaminwa amusamu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Wafwa akuciswa;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Andiyasa meso aakw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Ndayaswa mumoyo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Wakafwida a-Kalivali, Andisungul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Pele wakazwa kubafu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Andiimin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Nsikonzyi kuluba limwi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Kuyasawa ameso;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Wakandiyumwida kaambo kakamubambuzya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Wakafwida a-Kalivali, Andisungul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Pele wakazwa kubafu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Andiimin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__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09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14T09:58:09Z</dcterms:created>
  <dc:creator>Jonah</dc:creator>
  <dc:description/>
  <dc:language>en-US</dc:language>
  <cp:lastModifiedBy>ADMIN</cp:lastModifiedBy>
  <dcterms:modified xsi:type="dcterms:W3CDTF">2015-12-07T09:52:35Z</dcterms:modified>
  <cp:revision>4</cp:revision>
  <dc:subject/>
  <dc:title>127. KALE NDAKACITA ZIBI Tune: Oh, the lamb</dc:title>
</cp:coreProperties>
</file>