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A56-7C35-4151-A382-562638E5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FBD-AC4D-43F7-B399-E40ABC30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394-FAF8-40E0-B1E3-76E6BA2C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7BE-B3E7-4421-964D-3906D4AB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FE3-A872-4FA0-A9AA-6914942F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331-C89A-4814-8852-03973C8B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E15-C4BD-42E8-B9EC-6B294475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EFF-4B70-4CD4-8D9C-3BC1AE74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0CD-C596-428E-8689-EB08A710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2DE-B948-448A-8CD4-D322DA3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D2C-D0F0-4A04-830B-8611FE3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918-C45F-4C70-9F61-15F1B1A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C55C-61F7-4BF0-BAB5-B123031C29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920" y="691920"/>
            <a:ext cx="734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LI MUNZI MUBOTU   # 293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ff0000"/>
                </a:solidFill>
                <a:latin typeface="Calibri"/>
              </a:rPr>
              <a:t>THE GOLDEN CITY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li munzi mubotu ulatulindil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Bulemu bwawo tabwambiki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ya zuba talibbili akubbil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Kumunzi ooyo wango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zuba talibbi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asamu taayu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li basyomek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munzi ku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munzi ooyo wango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 Mwami w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lemu bwakwe tabwaambik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ya zuba talibbili akubb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munzi ooyo wangoli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zuba talibbi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asamu taayu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li basyomek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munzi ku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munzi ooyo Wango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tu boonse balalanga kuciinga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-Mwanaambelele wakaf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akuba mabwe aakwe aamweke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munzi ooyo wangoli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zuba talibbi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asamu taayu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li basyomek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munzi ku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munzi ooyo Wango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04:51:27Z</dcterms:created>
  <dc:creator>Jonah</dc:creator>
  <dc:description/>
  <dc:language>en-US</dc:language>
  <cp:lastModifiedBy>ADMIN</cp:lastModifiedBy>
  <dcterms:modified xsi:type="dcterms:W3CDTF">2015-12-11T12:24:14Z</dcterms:modified>
  <cp:revision>5</cp:revision>
  <dc:subject/>
  <dc:title>PowerPoint Presentation</dc:title>
</cp:coreProperties>
</file>