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636-C25D-4C39-BD74-3EAFB091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F08-66D6-40CA-8590-E1993F11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ACE-D1E3-4C38-AD03-1F04DCC4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5A8-8275-40D0-BD95-05FEE6DC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FA7-7617-44AC-B050-F34231D7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27C-F982-46BB-92E6-F969FE54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4EB-C12C-4AC4-B118-2AED9FD9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1C6-E32E-4C66-BA8D-92022895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1E2-7901-40FC-8051-A0DA0101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384-A20E-428B-AE3E-53947B3E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537-413D-4B01-9300-A7BAC5ED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891-1260-4E64-A5D0-A436F157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8202-5795-4C2B-A922-626090DDCF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260 Jesu ulaame ciindi coons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1844280"/>
            <a:ext cx="763272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ulaame ciindi c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lamusyoma Mwami 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layeeya Jesu mwi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guwakandifwida a-Kaliva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ame ciindi c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ame lweendo l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go-Mulongwaangu uutandisiy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ambo ndayeeya Kaliva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lumbaizya Mufutu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ndiyanda cinici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zumina kulipe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ndifwida a-Kaliva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ame ciindi c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ame lweendo l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go-Mulongwaangu uutandisiy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ambo ndayeeya Kaliva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labotelwa kutobe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oonse munzila mwandito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lateelela majwi a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waakandifwida a-Kaliva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ame ciindi c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ame lweendo l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go-Mulongwaangu uutandisiy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ambo ndayeeya Kaliva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silimbululi, nsikooyo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ambo ndasyoma 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mwi buzuba ndiyoobo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wakandifwida a-Kaliva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ame ciindi c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ulaame lweendo l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go-Mulongwaangu uutandisiy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Nkaambo ndayeeya Kaliva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21:10:31Z</dcterms:created>
  <dc:creator>Jonah</dc:creator>
  <dc:description/>
  <dc:language>en-US</dc:language>
  <cp:lastModifiedBy>ADMIN</cp:lastModifiedBy>
  <dcterms:modified xsi:type="dcterms:W3CDTF">2015-12-10T13:27:43Z</dcterms:modified>
  <cp:revision>3</cp:revision>
  <dc:subject/>
  <dc:title>260 Jesu ulaame ciindi coonse</dc:title>
</cp:coreProperties>
</file>