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77A9-B84D-4E61-9F87-1A82301C5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1F06-B3F8-46B9-AB9A-1225B984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B1ED-96A6-4C29-A06B-68DBC7849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9691-87AC-47A4-890D-F7CF6E368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285E-0C00-4542-936C-DB17EC7A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4CD1-60BC-4D24-82F6-103968B2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714C-E11A-4F05-BC48-90A51334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770D-FD52-48D2-BCF1-8603FE0D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C0C6-56CA-4E7B-B56C-27335D98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2D99-667F-424E-A391-41F0A682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6106-EB08-42E2-A34B-F13E3151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14D6-F9A4-493E-9209-3E528A5A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2B0A-D92D-4221-B006-83EAD67831E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305 Sena ndililembedwe?</a:t>
            </a:r>
            <a:br>
              <a:rPr sz="3600"/>
            </a:br>
            <a:r>
              <a:rPr b="1" i="1" lang="en-GB" sz="3600" spc="-1" strike="noStrike">
                <a:solidFill>
                  <a:srgbClr val="ff0000"/>
                </a:solidFill>
                <a:latin typeface="Calibri"/>
              </a:rPr>
              <a:t>Tune: Is my name writte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000" y="1628640"/>
            <a:ext cx="7848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Ulubono nsiyand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Ndwakaindi kasyoonto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Ndilayanda kujulu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Ndikanjile mumo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Mwibbuku lyabuumi Ilisalalisya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Kondyaambila Jesu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Sena ndalembwa m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557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Sena ndalembwa m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Sena ndalembwa m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Sena ndililembed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mwibbuku Lyabuum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6919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Zibi zyangu zyavu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Zyali mbuli musen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bulowa bwa-Jes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wazisanzya zyatub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Cisyomezyo ca-Mwa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Cilandibotezy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Zibi zyako naa nzinj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Zyoonse zyatuba buu.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Ii, ndalembwa m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Jesu nguwandilemb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Ii, ndililembedwe mwibbuk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Lyabuum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539640" y="907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unzi ooyo mubo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laa maanda aabamb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ntu boonse banji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baabo bakasanzigw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akunjili ukubi ukubisya bubot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kobalinda bangel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Ii ndililembedw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Ii, ndalembwa m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Jesu nguwandilemb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Ii, ndililembedwe mwibbuk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Lyabuum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02:22Z</dcterms:created>
  <dc:creator>Jonah</dc:creator>
  <dc:description/>
  <dc:language>en-US</dc:language>
  <cp:lastModifiedBy>ADMIN</cp:lastModifiedBy>
  <dcterms:modified xsi:type="dcterms:W3CDTF">2015-12-12T09:06:23Z</dcterms:modified>
  <cp:revision>6</cp:revision>
  <dc:subject/>
  <dc:title>305 Sena ndililembedwe? Tune: Is my name written?</dc:title>
</cp:coreProperties>
</file>