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E7B-4167-4CBB-923B-EF29BF7D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7A0-03FD-45A9-9A5B-BAFA63CF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3F92-5583-41B2-9B94-3648D45C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4E6-4E36-4A9F-B836-30B1E30C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23A-7C7F-49F5-B20A-D3A6914B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6B53-B2BA-4306-AB55-4547469A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5423-3F1C-42B2-A2F9-1313FBD7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711-589F-4331-ADB3-45D1095D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D9CA-C0A9-4A00-806D-5A740117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5DD1-368A-4417-BC71-8F5320F9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FF0-8D11-485B-BC10-831F9B26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D8A-0971-49B4-B7E6-A318ECB4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F8D0-4B69-4CAE-8BB3-08CAE1A32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tupaile Mafumofumo # 38</a:t>
            </a:r>
            <a:br>
              <a:rPr sz="4400"/>
            </a:br>
            <a:r>
              <a:rPr b="1" i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Let us Pray in the Mo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2120" y="18288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tupaile mafumofumo, atupaile masikati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tupaile masikusiku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ilabamba moyo wak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376200" y="1219320"/>
            <a:ext cx="80773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za ulavuwa mafumofumo, Leza ulavuwa masikati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za ulavuwa masikusiku, Ulabamba moyo wak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457200" y="990720"/>
            <a:ext cx="8153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esu mbwaiboole mafumofumo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esu mbwaiboole masikati, Jesu mbwaiboole masikusiku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libambe moyo wak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3T15:53:09Z</dcterms:created>
  <dc:creator>Guest</dc:creator>
  <dc:description/>
  <dc:language>en-US</dc:language>
  <cp:lastModifiedBy>ADMIN</cp:lastModifiedBy>
  <dcterms:modified xsi:type="dcterms:W3CDTF">2015-12-16T09:44:18Z</dcterms:modified>
  <cp:revision>8</cp:revision>
  <dc:subject/>
  <dc:title>Slide 1</dc:title>
</cp:coreProperties>
</file>