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2068-7CF6-4909-8C66-D507A016D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C8BD-405F-4CCF-83EB-31173527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3BAC-A104-4AE2-A868-CDCB6AA9E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EA65-2E94-47C7-8B7A-7864E193F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42BE-4C56-449E-9989-63ACEE58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BD7B-6964-4B8A-A943-00EEED6D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B562-5B11-4CA3-A7AE-C8BA8FC1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61E4-F11A-4E34-B4A5-EEDEAF7D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8586-6839-4CE9-AE08-C50F6151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EC69-9946-45B6-85F7-CDEA9EC6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05B6-4761-46D2-AE2C-C83096E2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75E1-1031-4958-82AB-959AAEA0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4EAD-05A4-4758-B057-CCBA9A5D944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alibri"/>
              </a:rPr>
              <a:t>301 Ndiceenda Mumusinz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1700280"/>
            <a:ext cx="755964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nzi wangu mupya nkuul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iceenda mumusinz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wiina mapenzi okuy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iceenda mumusinz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Ii nceenda mumusinz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diceenda mumusinzo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Munzi wangu mupya nkuul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diceenda mumusinz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uya kubona Muvun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iceenda mumusinz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wiina misozi okuy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iceenda mumusinz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Ii nceenda mumusinz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diceenda mumusinzo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Munzi wangu mupya nkuul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diceenda mumusinz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mwi bayandisya ans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iceenda mumusinz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cita zintu zibyaab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iceenda mumusinz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Ii nceenda mumusinz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diceenda mumusinzo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Munzi wangu mupya nkuul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diceenda mumusinz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Leza wandipa inguz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iceenda mumusinz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Limwi nkabone kujul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iceenda mumusinz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Ii nceenda mumusinz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diceenda mumusinzo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Munzi wangu mupya nkuul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diceenda mumusinz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09:07:24Z</dcterms:created>
  <dc:creator>Jonah</dc:creator>
  <dc:description/>
  <dc:language>en-US</dc:language>
  <cp:lastModifiedBy>ADMIN</cp:lastModifiedBy>
  <dcterms:modified xsi:type="dcterms:W3CDTF">2015-12-12T08:32:43Z</dcterms:modified>
  <cp:revision>4</cp:revision>
  <dc:subject/>
  <dc:title>301 Ndiceenda Mumusinzo</dc:title>
</cp:coreProperties>
</file>