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55AE-3AE0-49A3-B22B-FCAEF18C7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7F27-5290-47AE-ABE2-A80172915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0E93-9FC3-417F-9B04-E7A3D3B73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4A9D-BC27-4A31-9483-C71E173A5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79F9-3B74-4BB5-B88D-A868F1E64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AE73-191A-4D77-A66A-0CDD52319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A46B-FAFF-4B1E-AC49-C9BA03EE9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0618-E5EB-477D-BB52-DF7E6E129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8AF2-F748-4596-A1DA-8CAB1D395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50B0-A4A5-408F-9D69-D5E6B4A91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D478-C5FB-4D3A-92AA-7264B87C3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0354-DF23-40E9-9E42-DE9F1933D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6B35D-970C-43E0-BE96-AAFD6DE0A5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amuza Muswiilile - # 29</a:t>
            </a:r>
            <a:br>
              <a:rPr sz="2800"/>
            </a:br>
            <a:r>
              <a:rPr b="0" i="1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Come ye that Love the Lo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80520" y="14475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04000" indent="-504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    Kamuza muswiilile, majwi aa-Leza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iimbe lwimbo lubotu     x2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ucuuno ca-Leza     x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or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iitigwa toonse, atufwambaane bakwesu, tuli mulweendo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u-Zioni, kumuunzi wa-Lez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   Batakondwi tabazi, kulumbaizya Leza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aya kupengesya lyoonse   x2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abaizi nzila iya ku-Zion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nue on Next sli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1"/>
          <p:cNvSpPr/>
          <p:nvPr/>
        </p:nvSpPr>
        <p:spPr>
          <a:xfrm>
            <a:off x="228600" y="533520"/>
            <a:ext cx="84582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  Mulundu wa-Zioni, uzyala zibo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tunasika kujulu   x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tuna kweenda munzila yangol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   Twiimbe nyimbo zibotu, misozi iisansamu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ya kuli Leza wesu   x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unyika imbotu   x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3T14:37:03Z</dcterms:created>
  <dc:creator>Guest</dc:creator>
  <dc:description/>
  <dc:language>en-US</dc:language>
  <cp:lastModifiedBy>ADMIN</cp:lastModifiedBy>
  <dcterms:modified xsi:type="dcterms:W3CDTF">2015-12-16T08:52:23Z</dcterms:modified>
  <cp:revision>3</cp:revision>
  <dc:subject/>
  <dc:title>Slide 1</dc:title>
</cp:coreProperties>
</file>