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7EF-E1AD-4295-AD3E-67AFBD43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BD5-28A1-410A-8164-E3B979B0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850-291A-4F59-BD38-5546234D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CD5-496A-4302-B4BE-8EA97AF6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671-F4D5-479E-8C31-8DB3766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D2D-1796-401D-B379-4F0BE4A0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C0B-0DFD-4722-BA7E-88D766B1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CD7-8F3F-44FF-A06D-E600684A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0E0-0B9D-4361-B67A-9C82A081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B50-C0BE-4B2E-B349-8D779FCE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6BA-4117-4908-B246-D791F60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981-46F2-40C4-B15D-D3683FE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D56-DF62-48F8-B612-12B152CA02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1c Impeta Izool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mpeta izoolila, izolila M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yika, nyika izoozunga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nguzu zyakw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boola, ulaboola, ul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wa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umak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tu balowa, bantu bal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tamusyomi, batamusyo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boola, ulaboola, ul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wa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umak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tu balowa, bantu bal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simamambe, basimamam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boola, ulaboola, ul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wa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umak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tu balowa, bantu bal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tamuyandi, batamuyan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boola, ulaboola, ul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wa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umak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tu balowa, bantu bal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5:46:44Z</dcterms:created>
  <dc:creator>Jonah</dc:creator>
  <dc:description/>
  <dc:language>en-US</dc:language>
  <cp:lastModifiedBy>ADMIN</cp:lastModifiedBy>
  <dcterms:modified xsi:type="dcterms:W3CDTF">2015-11-04T07:18:05Z</dcterms:modified>
  <cp:revision>4</cp:revision>
  <dc:subject/>
  <dc:title>PowerPoint Presentation</dc:title>
</cp:coreProperties>
</file>