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C49-51AC-4A74-AA60-70D5FEB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A48-AB5B-4591-89DB-65A9B115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A8E-3D73-4768-9569-69E4ED85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CC8-3BB9-41FA-9118-92D857BE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0A0-BA9F-4127-A3C5-683CBBE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1E5-1703-4891-9B8D-3A52894D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4C0-142C-47E9-B1B8-B17A52ED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BFE-6241-4043-B46F-58537860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B60-D27C-465F-AFF8-AEA9A4F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CA8-599E-4DE8-A8D0-7B6C791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34D-DEDA-4BCF-9961-D6606275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B23-E1EA-4CB2-AEA7-0C96FD9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7256-3CFA-4F94-AF72-84A335E777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2491920"/>
            <a:ext cx="7559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ya kule aa-Lez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inda munzila zib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37. MWAMI NDABOOLA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Lord I am coming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boola,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bweedi alimwi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konditambu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sowa myaka minj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sanduka akul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Ndaboola,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Nsibweedi alimwi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Mwami konditambu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atala kukusi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usyoma akuzumi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boola,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bweedi alimwi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konditambu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yo wangu ulacis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pa nguzu akusy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boola, Ndaboo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sibweedi alimwi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konditambu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, nda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1:12:32Z</dcterms:created>
  <dc:creator>Jonah</dc:creator>
  <dc:description/>
  <dc:language>en-US</dc:language>
  <cp:lastModifiedBy>ADMIN</cp:lastModifiedBy>
  <dcterms:modified xsi:type="dcterms:W3CDTF">2015-12-07T11:13:44Z</dcterms:modified>
  <cp:revision>4</cp:revision>
  <dc:subject/>
  <dc:title>137. MWAMI NDABOOLA Tune: Lord I am coming Home</dc:title>
</cp:coreProperties>
</file>