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BC8-22CF-4CB1-BAC3-700EC072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F20-7073-4B16-845E-A7761037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714-255E-4266-AB65-E14CC14C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35A-014F-406E-8354-369B390B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7AE-14B3-4411-8DC0-8B1A0B18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BD7-C7C8-48A8-A215-F6438A84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05A-CF61-45B5-92DF-49FFA9A3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B45-F391-4596-97AA-0665368E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9B9-261F-4A95-B238-25F1E29D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DFB-9382-4211-965E-9016CD3B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F95-1E1D-43EB-8D21-990E760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8F8-E1DF-499E-B23D-579245F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3A39-4481-4CBF-B28A-1271DEB1F9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 14C Cenjela Omeso Ncob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1628280"/>
            <a:ext cx="7921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omeso ncob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omeso ncob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wali Taata kujulu utula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luy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omeso ncobo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omatwi mbomv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omatwi mbomv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wali Taata kujulu utula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luy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omatwi mbomv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maulu mbo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maulu mbo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wali Taata kujulu utula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luy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maulu mboe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mulomo mboam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mulomo mboam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wali Taata kujulu utula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luy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enjela mulomo mboamb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05:11:13Z</dcterms:created>
  <dc:creator>Jonah</dc:creator>
  <dc:description/>
  <dc:language>en-US</dc:language>
  <cp:lastModifiedBy>Jonah</cp:lastModifiedBy>
  <dcterms:modified xsi:type="dcterms:W3CDTF">2015-02-22T05:20:14Z</dcterms:modified>
  <cp:revision>1</cp:revision>
  <dc:subject/>
  <dc:title>C 14C Cenjela Omeso Ncobona</dc:title>
</cp:coreProperties>
</file>