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126-A032-4387-9A14-A84743DD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3EF-89E8-4816-8676-A9294D6B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D41-AF88-4AEE-BD60-E90867EE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F21-BF2F-4D3F-9718-744B63C1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DB6-5197-476E-9E07-2D353738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022-F052-4D24-B872-21ED66C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1C7-0BAE-4EB9-855B-A95BCD69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AD9-8EDB-4750-8603-85AE3F93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2D1-E4BF-4F7C-B04E-B0499101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DB0-5903-4A17-B9A4-DF44E43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617-99B0-4694-8BC6-D9BA047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7A7-3371-4814-B26D-661C391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0DE3-1455-474A-A831-95A4B434E8D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ibaya Kuzulwa Boonse  90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ff0000"/>
                </a:solidFill>
                <a:latin typeface="Calibri"/>
              </a:rPr>
              <a:t>When the Roll is Called up Yond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iyakulila impeta ciindi ciya kuman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wasika buzuba obutamani;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Bafutulwa nobaya kubungan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nyika kuya, Ndiya kubako nibaya kuzulwa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50920" y="90792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 njoob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ciindi cibotu, nibaya kubuka Ba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akuba akufutuka kupya; Basalidwe nibaya kubunganyig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 kubako, nibaya kuzul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 njoob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munyonene Mwami, likabbile iz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waambile luyando lwakwe, Kwamana kufutuka kw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limo wamana, Ndiya kubako, nibaya kuzul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ibaya … kuzulwa boonse njoob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05:26:14Z</dcterms:created>
  <dc:creator>Jonah</dc:creator>
  <dc:description/>
  <dc:language>en-US</dc:language>
  <cp:lastModifiedBy>Jonah</cp:lastModifiedBy>
  <dcterms:modified xsi:type="dcterms:W3CDTF">2015-02-01T05:49:01Z</dcterms:modified>
  <cp:revision>3</cp:revision>
  <dc:subject/>
  <dc:title>PowerPoint Presentation</dc:title>
</cp:coreProperties>
</file>