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F06-89B6-431C-9B67-DEE5738A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5B8-773B-4785-BAE4-3C36E1CC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CC6-79FE-4C3A-A812-9177AABA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3F5F-333A-4340-9756-BCF3A488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FF8B-DEDD-46CE-9FF2-9BB1748A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4A02-FC03-4050-B0DA-2672C52B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EB9-75E7-4B95-8C13-5C691293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9515-479E-4797-9998-9FD7976B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27A7-CE0B-4179-AC17-97D545E7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9AB-454C-4C7D-982D-55448A4C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18B9-6EE3-430B-A6BF-C02CC4CD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FE68-46B7-4410-8941-06ADFB18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2A78-13F8-4D17-88A3-83EAB6688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I INGUZU MUBULOWA  # 111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une: 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Power in the bloo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2361960"/>
            <a:ext cx="80769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na uyanda kusowa cib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uli inguzu mubulow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layanda kuzunda Saatan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uli inguzu mubulow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nguzu ziyoosya mili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Bulowa bwa-J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nguzu zyakweenda kabot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bulowa bwake 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na ulayanda kwaangululw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i inguzu mubulowa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ola usalazigwe Kalivali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i inguzu mubulo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nguzu ziyoosya mili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Bulowa bwa-J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nguzu zyakweenda kabot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bulowa bwake 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yanda kutuba mbuli caand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i inguzu mubulowa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 ulabotelwa kumwiimbil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i inguzu mubulo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nguzu ziyoosya mili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Bulowa bwa-J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nguzu zyakweenda kabotu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ubulowa bwake Mwam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4T11:15:18Z</dcterms:created>
  <dc:creator>ADMIN</dc:creator>
  <dc:description/>
  <dc:language>en-US</dc:language>
  <cp:lastModifiedBy>ADMIN</cp:lastModifiedBy>
  <dcterms:modified xsi:type="dcterms:W3CDTF">2015-12-04T11:27:05Z</dcterms:modified>
  <cp:revision>2</cp:revision>
  <dc:subject/>
  <dc:title>INGUZU MUBULOWA  # 111 Tune: Power in the blood</dc:title>
</cp:coreProperties>
</file>