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176-2726-47DB-913D-D1E593A4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400-2989-4333-8447-0D7DEC12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BCE-D8EC-40AA-8D34-CB29EC50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0702-0ABA-4A6F-BD88-867BFC75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824-E34F-4B2C-B16F-E3525859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533-CDD9-4AAD-9958-A2FDF0B3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66D-8F32-412B-BD8A-BEDC1A95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AF34-410F-4DAB-BFB6-0E411D4D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AB1C-3849-4870-AD9C-820195A5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0F4C-3C5A-4F13-AF8E-94A2D7D8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024-341D-4DD8-B97D-AA4C4DAA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8813-53D9-4A07-87E1-A9BD7058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FE73-C907-4A58-8AB8-1B3E861FE65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0920" y="2420640"/>
            <a:ext cx="79930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bbwe eeli ngu-Mwami wesu, Tuya kuyubila mum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kuba twakatazig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kocili coonde ciyum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 IBBWE ELI NGU-MWAMI WESU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Tune: A shelter in the time of st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ciyumu coonde canguz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cimvule ciindi nikupy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endezi wakaenden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kocili coonde ciyum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cisitilizyo isikat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uya kuyubila mum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ntu takatuyoosy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kocili coonde ciyum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ciyumu coonde canguz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cimvule ciindi nikupy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endezi wakaenden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kocili coonde ciyum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penzi naavula but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uyakuyubila mum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ulajana muli-Le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kocili coonde ciyum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ciyumu coonde canguz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cimvule ciindi nikupy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endezi wakaenden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kocili coonde ciyum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tijilo eeci ndibb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uya kuyubila mum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oba nduwe uutugwas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kocili coonde ciyum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ciyumu coonde canguz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cimvule ciindi nikupy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endezi wakaenden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kocili coonde ciyum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6:36:53Z</dcterms:created>
  <dc:creator>Jonah</dc:creator>
  <dc:description/>
  <dc:language>en-US</dc:language>
  <cp:lastModifiedBy>Jonah</cp:lastModifiedBy>
  <dcterms:modified xsi:type="dcterms:W3CDTF">2015-02-14T16:47:36Z</dcterms:modified>
  <cp:revision>2</cp:revision>
  <dc:subject/>
  <dc:title>201. IBBWE ELI NGU-MWAMI WESU Tune: A shelter in the time of storm</dc:title>
</cp:coreProperties>
</file>