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981-F951-4C30-B189-BC521389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4E1-2665-4AE1-B6B8-371F356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E8C-02CB-4BFB-9E7B-F2EC1B7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491-9783-4A06-872A-92F495AB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8A7-245E-4B94-967D-54B1889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2FF-ADC3-43FA-9151-15440D8E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A5-2235-4A22-80A9-197FE61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F8F-1B08-4225-996C-1A088A09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0B9-DDEA-4B2A-A605-0E6F90A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CD9-9DD0-4376-99B3-A3602B1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C69-1D9E-4BDE-9354-3524E37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33E-7CCE-4BBE-8820-8CC0321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EACE-8056-4FD0-9ABB-8BCA47D205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angila kwangu k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 mubulowa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syoma Jesu alikk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owakandisalulu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6 Kulangila kwangu Koons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My hope is bu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risto ndibbwe mpondiimv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. x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mudima wamusis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jata luse luyum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kuba mapenzi a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jitila kuli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risto ndibbwe mpondiimv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. x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syomezya a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okuvuna mumasun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mwi nibawa muzi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yakukkala a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risto ndibbwe mpondiimv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. x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akuboola amukung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a akantambu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esamide bulul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etakwe kaambo a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risto ndibbwe mpondiimv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onse kumbi muse buy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0:56:05Z</dcterms:created>
  <dc:creator>Jonah</dc:creator>
  <dc:description/>
  <dc:language>en-US</dc:language>
  <cp:lastModifiedBy>ADMIN</cp:lastModifiedBy>
  <dcterms:modified xsi:type="dcterms:W3CDTF">2015-12-10T13:16:02Z</dcterms:modified>
  <cp:revision>4</cp:revision>
  <dc:subject/>
  <dc:title>256. Kulangila kwangu Koonse Tune: My hope is built</dc:title>
</cp:coreProperties>
</file>