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55D-5F4E-436A-B212-CDA52E63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D4F-1950-4D2B-A418-482CB56F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DA2-E621-49F8-A664-67BB4C14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0929-C27D-4DC0-8ED8-4436D065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C5C-82F2-4E35-9B81-D3F843AB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5AE-D388-4EE2-9FBC-2103FD34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29F-6784-4D1A-899A-9D663C55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6A5-220A-46E4-8F5C-9610C306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4D2-6681-42E6-8864-EEBEEE41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005-6C26-4FE4-9482-21A4086C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CC5-438A-48A2-BA9D-2954CE4E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C3D-EAB4-49F7-BBB5-77E0AE8B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4798-5CCA-4063-980D-D723645A73E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183 Ndajana Mweenzuma Mwini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Tune: What a Friend we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1700280"/>
            <a:ext cx="7201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Ndajana mweenzuma mwini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Wandiyanda lutanzi;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Nenditaninga muyanda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Wandyaanga luyando;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Wauzambaila moyo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Intambo yaluyando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Ndili wakwe, uli wangu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Ngwangu okutamani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jana mweenzuma mwi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Owakandiyasilw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kandipa kufutuk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wakwe mwini J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nyina nceng’amba nc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wendijisi nkokw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oyo ainguzu zy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zizyakwe kutama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jana mweenzuma mwi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pegwa nguzu zy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Zyakundyeenzya munz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kasike k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oolwe cilamweka muns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ilandibuzya cal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no ndanyona, ndalwa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yakulyokezya 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5:44:23Z</dcterms:created>
  <dc:creator>Jonah</dc:creator>
  <dc:description/>
  <dc:language>en-US</dc:language>
  <cp:lastModifiedBy>ADMIN</cp:lastModifiedBy>
  <dcterms:modified xsi:type="dcterms:W3CDTF">2015-12-08T11:45:07Z</dcterms:modified>
  <cp:revision>3</cp:revision>
  <dc:subject/>
  <dc:title>183 Ndajana Mweenzuma Mwini Tune: What a Friend we have</dc:title>
</cp:coreProperties>
</file>