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CCBE-D750-45EC-BADE-D67561D74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E7F2-4030-44AE-9669-7B613A2AF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D877-C1E1-424F-9EB5-65DB9CEA7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A70B-6527-4421-8421-9AB65CA57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E8FD-1A37-4781-B195-2E3D5CCDA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BCF5-8110-4224-8248-19DB43A73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3E16-47FA-4312-8FAD-BE27E1988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BCF2-AC12-4CD2-A039-6B57509CE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FC6A-4716-4D4C-8E64-6BEBDF4A5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BCAD-1B8F-43EC-A240-521DA0BF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6B46-5494-4A8F-9F7E-D64DD391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6AFA-803A-4646-9D97-B7EE0A31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D6A65-CA69-424B-A7F5-E302321E07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uuya Wangu Lumba Mwami   #  7</a:t>
            </a:r>
            <a:br>
              <a:rPr sz="3600"/>
            </a:br>
            <a:r>
              <a:rPr b="1" i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Praise My Sou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uuya wangu Lumba Mwami; Leta zipego zyako;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anununwa wajatiilwa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Uleelede kumwiimb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umbaizya!   Lumbaizya!  Lumba Mwami uutafwi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umbaizya luse lwakwe, kuli Bataata Leza; Lumba nkaambo tasanduki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Ucileleka isw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Lumbaizya!   Lumbaizya! Kusyomeka nkukwakw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28240" y="114264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atulela mbuli Taat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Ulizi ampotuwa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umaanza watusumpul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atufutula lyoon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Lumbaizya! Lumbaizya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Lumba luzyalo lwakw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3T14:17:12Z</dcterms:created>
  <dc:creator>Guest</dc:creator>
  <dc:description/>
  <dc:language>en-US</dc:language>
  <cp:lastModifiedBy>ADMIN</cp:lastModifiedBy>
  <dcterms:modified xsi:type="dcterms:W3CDTF">2015-12-16T06:47:37Z</dcterms:modified>
  <cp:revision>10</cp:revision>
  <dc:subject/>
  <dc:title>Slide 1</dc:title>
</cp:coreProperties>
</file>