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F23-F9B2-4046-B3BB-09E9B3EB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1B4-AD24-496B-B5A1-B82B26C6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402-1F85-4B39-93FD-70845E4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6A8-C163-4665-B839-67374015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33F-6138-4129-A09F-B70FD4EF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796-964F-4774-AF13-DBB60A38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4A6-5C02-49B7-856C-FB300A03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DA6-CCBA-404E-ACBB-4F6D47F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49C-579F-44F8-8FC7-D93F137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20B-D45E-41BA-A568-70C0F42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A3F-51B3-4910-B260-2766FB4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4D1-C7EE-4FA7-9113-3A72BD8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4F4B-F2B7-4688-A145-BCC2B6BB62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640" y="242100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imbisya amumoyo wangu, ijwi lyako 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 leka eno ndikubone, Sena wazum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1. NDAZUMIN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I wi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ii, ii, Leza ndigwas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a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nduula abulowa b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ndibe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ii, ii, Leza ndigwas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a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nduula abulowa b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ndibe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futuka amuluse lwa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yoonse wandi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 Kristo, ii, ndazumi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yoonse undigwas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ii, ii, Leza ndigwas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a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nduula abulowa b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ndibe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izi akulibombya kwangu, Aboowa mbwenjis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uzu zyangu zizwa kuli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unu undip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ii, ii, Leza ndigwas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a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nduula abulowa b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ndibe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, boola uzoobape sun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use akwiimb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onse atwaambe ku-Mwami w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be bana-Kris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ii, ii, Leza ndigwasy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ba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nduula abulowa bwak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i, ndibe wa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kakumbila nowakali aano, Mwami nawayand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amvwa boonse kabaamba aab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ukalil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1:40:07Z</dcterms:created>
  <dc:creator>Jonah</dc:creator>
  <dc:description/>
  <dc:language>en-US</dc:language>
  <cp:lastModifiedBy>ADMIN</cp:lastModifiedBy>
  <dcterms:modified xsi:type="dcterms:W3CDTF">2015-12-07T12:33:36Z</dcterms:modified>
  <cp:revision>6</cp:revision>
  <dc:subject/>
  <dc:title>141. NDAZUMINA Tune: I will</dc:title>
</cp:coreProperties>
</file>