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7C52-F8EB-47FD-A3EC-627FEE0D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E85C-C3FA-4678-BC81-5E8E7CD8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6429-9B74-47E0-9752-322070C4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C412-D454-4BBF-8A22-45E1A0F9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60C1-305A-4818-8AE7-2D540E6B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A68F-8D56-4476-90D7-E1942401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15AB-E829-4D0A-BDFD-7E724FAB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B532-86F3-4CCA-9C0C-E3AD22F2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1AD9-C4D0-4D76-A60D-EE581D94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2683-3EBC-4723-B614-7F91E30E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3EB8-802D-4272-B4F0-DE00DF5E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0DF3-F8FC-4A60-880E-657DB2A9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9439-315C-4A89-9D63-186CC7F1016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288 Ngu-Jesu Wakaamb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907920"/>
            <a:ext cx="806436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Ngu-Jesu wakaamba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Kubasikwiiya bakwe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Naakayanda kubwee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Kumunzi wakujulu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Kamuya mubaiisy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Izina eeli lyangu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Bamasi mubaziby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Makani aangu oons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amuya moompolo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Eeli ivangeli lyang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baiisye abantu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ilaizyo yangu y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kuti uundisyo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yooba uufutulw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kuti uundika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yooba uufwidilil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muye enguzu zyang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Zyapegwa kulindime zy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lange njooba anyweb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ane kumamani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mane ukwaamb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asumpuka mujul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bube baya kuma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kambauka ijw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06:04:24Z</dcterms:created>
  <dc:creator>Jonah</dc:creator>
  <dc:description/>
  <dc:language>en-US</dc:language>
  <cp:lastModifiedBy>ADMIN</cp:lastModifiedBy>
  <dcterms:modified xsi:type="dcterms:W3CDTF">2015-12-11T10:49:51Z</dcterms:modified>
  <cp:revision>3</cp:revision>
  <dc:subject/>
  <dc:title>288 Ngu-Jesu Wakaamba</dc:title>
</cp:coreProperties>
</file>