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26A-5F54-4035-B8F0-12BA7CCB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560-1292-41C4-BA8A-E813A2B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F24-F5B5-485E-8B5F-69677137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1B9-E792-41CD-90FD-A0A216DF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EC8-40BE-4146-B3DF-B94B2631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1FE-7F19-4C09-9DF9-C8E51E75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919-9078-4748-AB69-784ED04D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7BC-8547-428C-9E4A-E29923ED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1A7-B94D-4AE4-AA98-74C0E606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A88-DBC0-4213-ACEA-DFAC83AC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0CC-9E10-4503-B481-D9C9F103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C3E-6000-48B0-B5F2-4666665E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F878-CED7-4198-B2CB-B95F332E0C3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28 Ndiyanda Kubeleka</a:t>
            </a:r>
            <a:br>
              <a:rPr sz="36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Tune: I want to be a work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060280"/>
            <a:ext cx="7920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yanda kubeleka ku-Mw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yanda kusyoma majwi aak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wiimba, kukom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kubeleka lyo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muunda wa-Le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akkala, ndakomba, mumuu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muunda wa-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wiimba, kukomb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kubeleka lyo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muunda wa-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yanda kubeleka enguz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yanda kusyoma kul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oonse mbai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lajana kukond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muunda wa-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akkala, ndakomba, mumuu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muunda wa-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wiimba, kukomb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kubeleka lyo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muunda wa-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yanda kubeleka ku-Mw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zulwida kumajwi aa-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kabe kuteel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nooya bukond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muunda wa-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akkala, ndakomba, mumuu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muunda wa-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wiimba, kukomb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kubeleka lyo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muunda wa-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1:48:39Z</dcterms:created>
  <dc:creator>Jonah</dc:creator>
  <dc:description/>
  <dc:language>en-US</dc:language>
  <cp:lastModifiedBy>Jonah</cp:lastModifiedBy>
  <dcterms:modified xsi:type="dcterms:W3CDTF">2015-02-18T12:04:04Z</dcterms:modified>
  <cp:revision>2</cp:revision>
  <dc:subject/>
  <dc:title>328 Ndiyanda Kubeleka Tune: I want to be a worker</dc:title>
</cp:coreProperties>
</file>