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F95-E66E-4BE1-BE7D-0E728521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271-D7AF-45A5-ABEE-C69787E2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026-48F3-413D-997C-17F6E67B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6CE-1524-473A-85CE-62609DA4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C77-7B99-4B69-B9BE-182B2735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77A-9146-4D7D-B34A-F4A6F47B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F9C-A190-44DA-AA75-97576C8B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BAE-AAF9-420B-8D62-A8DA7093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011-BB31-4B26-A1A3-D636462A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B0F-64E5-48A4-AB9C-2485B6C2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D39-594C-46B3-8B61-3D0522C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60B-802B-48E5-A077-C178E48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8E38-0299-4FB6-974A-F315B932D3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60 Ukwakwe Leza Tabala Mweel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70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kwakwe Leza tabala mweel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, Tul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nkutuzwa k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kuswanan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tunta oyu cilalya cuumb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, Tul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nkutuzwa k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kuswanan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 Jesu takuli madil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, Tul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nkutuzwa k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kuswanan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lwazi alufu tazikwe nka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, Tul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nkutuzwa k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kuswanan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 Jesu ulatweebe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, Tul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nkutuzwa k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kuswanan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nse basyoma ulatambu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, Tul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nkutuzwa k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kuswanan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syome, Mwami, akatutambu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, Tul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nkutuzwa k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ya kuswanan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04:40:59Z</dcterms:created>
  <dc:creator>Jonah</dc:creator>
  <dc:description/>
  <dc:language>en-US</dc:language>
  <cp:lastModifiedBy>Jonah</cp:lastModifiedBy>
  <dcterms:modified xsi:type="dcterms:W3CDTF">2015-02-22T04:56:29Z</dcterms:modified>
  <cp:revision>2</cp:revision>
  <dc:subject/>
  <dc:title>360 Ukwakwe Leza Tabala Mweelwe</dc:title>
</cp:coreProperties>
</file>