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DE7-BE92-4B35-8D62-8D3B8AFC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F9E-89AD-4ACA-9310-296F9DEC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845-0AED-47C4-BF92-219C62D5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A67-F53C-4162-8AA2-DFC41D76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5CF-3BE6-478F-9A8E-E82A453D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20B-247D-4B61-805A-383EFA69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A42-5EB7-46E0-AFA5-2F3D24DB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31A-9A3C-4715-8132-BEBED2E7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896-D199-49F6-A679-6B358EF6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661-FCCB-45D8-916A-57F98657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43B-A8C3-42B5-A2DA-E36C2F71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9DA-0E48-4494-9AA5-2AAF1101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0FCD-3263-47FA-B8D2-B2215027A74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38 Notuyand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Munzi inga mubotu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otuyandana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Kuseka koonse koonse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otuyandana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kokuli kuumuna kunyina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zala ooko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Ciindi cilafwambaana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otuyandana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liswe, Kulis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iindi cilafwambaa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otuyanda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kkomana munka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tuyanda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nyina kusula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tuyanda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nzila ilaa malu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zila yoonse nimbotu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latukkomanis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tuyanda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liswe, Kulis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iindi cilafwambaa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otuyanda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Kujulu kulaseka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otuyandana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Inyika ilaa luyando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otuyandana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Kalonga kalaseka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Izuba lilabala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Mwami ulasekesya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otuyandana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liswe, Kulis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iindi cilafwambaa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otuyanda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Jesu tuvune kut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kayandan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ulisende kuti tukayanda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ciko cindipenz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wamunyika t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lelekwa mulu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kayanda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liswe, Kulis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iindi cilafwambaa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otuyanda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11:19:48Z</dcterms:created>
  <dc:creator>Jonah</dc:creator>
  <dc:description/>
  <dc:language>en-US</dc:language>
  <cp:lastModifiedBy>ADMIN</cp:lastModifiedBy>
  <dcterms:modified xsi:type="dcterms:W3CDTF">2015-12-14T12:15:50Z</dcterms:modified>
  <cp:revision>7</cp:revision>
  <dc:subject/>
  <dc:title>338 Notuyandana</dc:title>
</cp:coreProperties>
</file>