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F95E-1905-4BAE-83EA-D4693A275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09FE-3169-4C68-83EA-E1858B7C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3384-E6C8-4472-BA56-2CE0F0C4E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FF72-44DC-491E-BE43-10A5EF9AA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AE2F-3C2F-449F-93A0-6D04087A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7485-4150-4793-9090-A478E3F0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2733-ED18-485B-9F2D-D2878FA9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13F3-BAF4-4770-8507-3E9AA9BB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4977-A4A3-4EAB-975A-998ACE4B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59E2-464E-4B05-889B-B8A92119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204F-55C5-490C-A669-8F077BFC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F7B9-B580-486C-838A-DAB6654C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5D18-FF3B-40A1-83C1-D85E0BA51FB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9800" y="692280"/>
            <a:ext cx="7993080" cy="17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18. AMUBOOLE MUTALUZI</a:t>
            </a:r>
            <a:br>
              <a:rPr sz="4400"/>
            </a:b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Tune: Welcome, come, ye sin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Content Placeholder 2"/>
          <p:cNvSpPr/>
          <p:nvPr/>
        </p:nvSpPr>
        <p:spPr>
          <a:xfrm>
            <a:off x="826920" y="2421000"/>
            <a:ext cx="7543800" cy="41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Amuboole mutaluzi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Jesu ulamutambula; Mulemenwa zibi zyanu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Jesu ulamufutul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Aleluya, Aleluya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Aleluya, ku-muvun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Aleluya, Aleluya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Aleluya, ku-muvun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wamutamba, nobeenzu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imwapambwidwe ku-Mwami;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munjile kulindiswe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Jesu mwali, ngu-Mubot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Aleluya, Aleluya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Aleluya, ku-muvun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iindi twali basikufwa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ino Kristo watubusy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atuleta kucibaya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atengwana abavub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Aleluya, Aleluya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Aleluya, ku-muvun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yoyo, majwi, amaboko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onse atembuule  Lez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yootweenzya kulinguwe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kutuyanda kuba aw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Aleluya, Aleluya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Aleluya, ku-muvun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waakusika kuli-Leza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kupobwe lyakwe Jes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uyoimba tuyoozyana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uyoolumba lyoonse, lyoons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4T08:56:36Z</dcterms:created>
  <dc:creator>Jonah</dc:creator>
  <dc:description/>
  <dc:language>en-US</dc:language>
  <cp:lastModifiedBy>ADMIN</cp:lastModifiedBy>
  <dcterms:modified xsi:type="dcterms:W3CDTF">2015-12-17T09:04:21Z</dcterms:modified>
  <cp:revision>5</cp:revision>
  <dc:subject/>
  <dc:title>PowerPoint Presentation</dc:title>
</cp:coreProperties>
</file>