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A8E-461C-47EC-AF8E-D1332D1C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21B-124D-4253-940B-24E1289C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C91B-F65F-40D2-B720-95AC7AA8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DE1-74EB-4EFB-8A7F-9B81FA85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BBD3-733F-4F6E-84FF-15561BF3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F2B-FA49-4251-9329-7AE481CA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A51-5359-41DB-8AAE-02F0DCC6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4E9-D0C0-4889-8FBA-44C605F2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963-9B8E-4771-B098-86B43AA2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3F8-9A86-4C3E-9507-C89518C4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82E-150D-46ED-BFA3-CE0355A9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EC3-6188-4131-B675-3F803DF6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F294-EF1C-4214-8AC6-D75D65AA3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risto Wabuka Sunu  #80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hrist the Lord is Risen To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1920" y="152352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isto wabuka sunu, Aleluya; Bangelo boonse bati, Aleluya; Atumulumbaizye, Aleluya; Imba julu anyika, Aleluy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unununo lwacitwa, Aleluya; Walo wazwidilila, Aleluy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uba lyazwa alimwi, Aleluya; talikazwi alimwi, Aleluy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Cuumbwe caba cabuyo, Aleluya; Kristo waciponzola, Aleluy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lo wazunda lufu, Aleluya; Watujulila julu, Aleluy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pona Mwami wesu, Aleluya; Lino lwambazi lufu? Aleluy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ga tulafutulwa, Aleluya; ino caambazi cuumbwe? Aleluy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  Tulaya nkwaya Kristo, Aleluya; Ulatusololela, Alelu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laya mbuli nguwe, Aleluya; Ciingano, Cuumbwe Julu, Alelu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18:39:30Z</dcterms:created>
  <dc:creator>Guest</dc:creator>
  <dc:description/>
  <dc:language>en-US</dc:language>
  <cp:lastModifiedBy>Guest</cp:lastModifiedBy>
  <dcterms:modified xsi:type="dcterms:W3CDTF">2012-08-13T19:00:52Z</dcterms:modified>
  <cp:revision>4</cp:revision>
  <dc:subject/>
  <dc:title>Slide 1</dc:title>
</cp:coreProperties>
</file>