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5C71-0E5B-4EE7-A3FE-B906B5EB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1DC6-41D0-4732-A89C-A5E5DB39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91C8-A463-43BC-B11B-BD22C7DE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7372-83BD-48B2-9048-48231BE2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4DFB-5495-4BAC-9544-6E9D2758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898D-BEFA-4E27-BFF1-BE9E328D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B3FF-A788-4C83-A655-3465CB38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A5DC-6308-40C2-B5BC-BF04EC12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BC90-9DAB-4B99-A6C5-1E1BC342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FED3-4B7A-4DE2-979F-D8D13C17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CC6C-76B6-478D-9602-096F9726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7ABA-8B9E-45A9-A4B3-8F96AC46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880B-41CE-492F-9F4E-34BF90586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2c Ndakasoka Ndabis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kasoka ndabis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owa kondijalwi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4T07:15:15Z</dcterms:created>
  <dc:creator>ADMIN</dc:creator>
  <dc:description/>
  <dc:language>en-US</dc:language>
  <cp:lastModifiedBy>ADMIN</cp:lastModifiedBy>
  <dcterms:modified xsi:type="dcterms:W3CDTF">2015-11-04T07:43:21Z</dcterms:modified>
  <cp:revision>2</cp:revision>
  <dc:subject/>
  <dc:title>22c Ndakasoka Ndabisya</dc:title>
</cp:coreProperties>
</file>