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019-6E11-44B2-B45A-2E261CB1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6F0-DA6C-40E0-8DBA-514C1C8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400-B44F-4C49-866C-562B7CCE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0F6-0EED-4348-9D1B-B02E3BB5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A03-90D4-49E8-BF90-8D1BBBB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8B5-D57A-4924-8E5D-B50FE57D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841-6EA0-468C-9C48-12AF5709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E9E-184E-4B74-842F-6F947007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2D7-189D-47BA-9BAA-659CDD3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6A9-04BA-49AD-8797-0BB7A13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9E4-08F4-4750-9853-3B97C03C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CDA-0F9C-4A35-9EF9-644ED53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077E-C059-41FD-93E7-D576228101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2421000"/>
            <a:ext cx="77752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li kasensa kazwid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lowa bwa-Mwami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sizibi basamba m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asalazig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30. KULI KASENSA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une: There is a Fountai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zumina ndak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wakamfwid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owakatila bulo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ti ndaangunun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zumina ndak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wakamfwid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owakatila bulo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ti ndaangunun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indi mufumpi kakondwa, kabona kasens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bo sizibi mupat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kulumba lo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zumina ndak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wakamfwid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owakatila bulo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ti ndaangunun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Mwami, Mwanaa wa-Lez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fu lwako, Jesu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lakonzya kutuvun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ilandu 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zumina ndak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wakamfwid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owakatila bulo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ti ndaangunun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bo nsyeelede k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julu kuyoosy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e webo walungil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ibi zyangu z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dazumina ndakusyo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i wakamfwid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bowakatila bulo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uti ndaangunun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jookwiimbila lwiimbo oolu, Mazuba aangu oonse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julu njookondwa loko, Mubuumi buteel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0:23:10Z</dcterms:created>
  <dc:creator>Jonah</dc:creator>
  <dc:description/>
  <dc:language>en-US</dc:language>
  <cp:lastModifiedBy>ADMIN</cp:lastModifiedBy>
  <dcterms:modified xsi:type="dcterms:W3CDTF">2015-12-17T09:47:59Z</dcterms:modified>
  <cp:revision>7</cp:revision>
  <dc:subject/>
  <dc:title>130. KULI KASENSA Tune: There is a Fountain</dc:title>
</cp:coreProperties>
</file>