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46D1-CEA9-4F2D-86B8-68F4EF80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FFF-5100-46A4-BB20-15B30B1C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874-A3CC-40BA-9C84-EC53E70F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F6B-B527-458E-8A0A-EC8B10D1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BD6-A98F-4537-993A-80F6D234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495-9BEE-4CD6-A2C7-A64712B9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F3E-34C1-4143-B37C-EBF009C3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FA1-D51E-496E-A084-2294E8F2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2A0-7EBB-482F-AEAA-E7593EE3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07F-D6F6-4CA7-8BDC-F704294A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3B8-CB77-4EAC-AC15-25C2FC02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BA65-02E5-4D65-B700-DEF50B22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D580-1B2B-4A73-B679-645760538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yando Lutaulwi  #  6</a:t>
            </a:r>
            <a:br>
              <a:rPr sz="4400"/>
            </a:br>
            <a:r>
              <a:rPr b="1" i="1" lang="en-US" sz="4400" spc="-1" strike="noStrike">
                <a:solidFill>
                  <a:srgbClr val="c00000"/>
                </a:solidFill>
                <a:latin typeface="Calibri"/>
              </a:rPr>
              <a:t>His Loving Kind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uka moyo wangu iimba; uyiimbile Muunununi. Ndielede kumwiimbila; Luyando olutaulw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uyando lubotu lwini, Luyando olutaulw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ndibona ndabisyigwa; wandiyanda nendiboobo. Wandifutusya mububi; Luyando olutaulw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uyando lubotu lwini, Luyando olutaulw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ibavula abampenzya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zila neisinkwa kubi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laakweenzya moyo wangu; Luyando olutaulw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uyando lubotu lwini, Luyando olutaulw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380880" y="576360"/>
            <a:ext cx="83059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indabomba mukupenga; kupenga kupati pati. Lyoonse ulakkala ame; Luyando olutaulw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uyando lubotu lwini, Luyando olutaulw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3:40:31Z</dcterms:created>
  <dc:creator>Guest</dc:creator>
  <dc:description/>
  <dc:language>en-US</dc:language>
  <cp:lastModifiedBy>ADMIN</cp:lastModifiedBy>
  <dcterms:modified xsi:type="dcterms:W3CDTF">2015-11-30T08:49:03Z</dcterms:modified>
  <cp:revision>7</cp:revision>
  <dc:subject/>
  <dc:title>Slide 1</dc:title>
</cp:coreProperties>
</file>