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FCBD-FB1E-4481-BCDF-CE3C8B4260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D14A-ABBF-42C6-BBFD-0E62BEDFF9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5A4-485A-4289-A1EA-3F53BD8F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5EA-FBD9-4520-A045-73FCE7C6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044-4213-4E11-8431-D722CAC8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16D-1506-4611-9DC9-2BA68B2E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BD7-1939-460A-AB37-D81745E6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9D1-7C9F-4315-92BC-92BD5CF3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0BA-9991-4970-A0D9-ADB1BF6B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3C1-F064-4DC3-B61E-7A2BBBD5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CE0-BF54-4B9A-80A6-F5794B1A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E8F-B284-4AA1-850A-B73C22A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EB6-1730-4A8B-914A-92972CF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7FF-DCD9-4E16-8BB6-FBFF43F7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C42E-AB09-4B04-AA98-13F181B081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920" y="2205000"/>
            <a:ext cx="86421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kasanzigwa kuli-Jesu se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samba mubulowa bwakwe? Sena mulasyoma munguzu zy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samba mubulowa bwak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38. MWASAMBA MUBULOWA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Are you washed in the bl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samba mubulo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waakatila Mwanaa Mbele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na myoyo yanu ilatuba bu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o amusambe mo n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a muleenda a-Mufutuli wan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samba mubulowa bwak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a mulalangila Jesu mujay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samba mubulowa bwak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samba mubulo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waakatila Mwanaa Mbele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na myoyo yanu ilatuba bu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o amusambe mo n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bwiinga aboola, kulab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libamba kumwanzya sena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tontozya kuciingano se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samba mubulowa bwak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samba mubulo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waakatila Mwanaa Mbele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na myoyo yanu ilatuba bu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o amusambe mo n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ununa zisani zyanu zibi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ba mubulowa bwa-Jes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asensa kasalazya moyo mub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usambe mubulowa bwak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samba mubulo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waakatila Mwanaa Mbele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na myoyo yanu ilatuba bu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Lino amusambe mo n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1:23:08Z</dcterms:created>
  <dc:creator>Jonah</dc:creator>
  <dc:description/>
  <dc:language>en-US</dc:language>
  <cp:lastModifiedBy>ADMIN</cp:lastModifiedBy>
  <dcterms:modified xsi:type="dcterms:W3CDTF">2015-12-17T09:52:03Z</dcterms:modified>
  <cp:revision>8</cp:revision>
  <dc:subject/>
  <dc:title>138. MWASAMBA BULOWA Tune: Are you washed in the blood</dc:title>
</cp:coreProperties>
</file>