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B0C-6143-4F6C-9BA9-3A8FF76E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4DA-9665-4E56-9290-71A42F26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85B-5424-4D91-9C9E-C591F750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ABC-62E6-44F1-BDED-17C145E1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42C-EB87-46E7-BDB3-BF757D37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74B-B984-4721-AAFC-8EE66A20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BB8-B10B-4E9A-A90B-3736062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72A-B166-4A4E-9162-77FFD80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89A-9282-4B17-A145-FAD8D34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BC2-4D06-4E92-BD84-0DC8CBD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C66-E823-4FDB-86A2-AA50379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014-47B9-48AF-82EE-B4A5A55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2507-515F-4444-A34A-35B18492EF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68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elela ulatusyom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yootupa zyaluzy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boole kukutugwas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15 COOLWE CIPATI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There shall be sho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lulatusikila 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tulalulil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lwe cipati nca-Leza. Ciyootusinsimunis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wida ombu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vula impati iiyoos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lulatusikila 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tulalulil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ituwide bwasun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koboola tuyomv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la eno Mufutu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lulatusikila 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tulalulil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cibotu ncasun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bi zyaboonse zyavumb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koboola, ko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oolwe cipati nc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lulatusikila 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use tulalulil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59:23Z</dcterms:created>
  <dc:creator>Jonah</dc:creator>
  <dc:description/>
  <dc:language>en-US</dc:language>
  <cp:lastModifiedBy>ADMIN</cp:lastModifiedBy>
  <dcterms:modified xsi:type="dcterms:W3CDTF">2015-12-09T10:02:14Z</dcterms:modified>
  <cp:revision>3</cp:revision>
  <dc:subject/>
  <dc:title>215. COOLWE CIPATI Tune: There shall be showers</dc:title>
</cp:coreProperties>
</file>