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A95-EAD0-46DB-A9D1-63CF7049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1DE-B7AC-4019-8E91-1F25D1AF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1E4-CB6B-476A-8C5D-5F6161DF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C84-21EA-4FA0-A8EA-A64BE28A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86F-0132-4FCB-BFDC-A7B5C8C2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DE4-4FD2-4F5A-8485-5F82CB91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EDF-4EA3-4ACE-8749-E9DE3234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93A-527C-42F0-920B-4C7CD948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F84-C372-4ED5-B57E-D2CD2C99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08B-DFED-466D-AAFD-ADBDF481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253-CDCB-41A3-AA0A-F1483912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A5E-0530-440B-A3DF-E5B40908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9C75-7E5E-4135-8A80-DFAA991B11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WAMI ALUZYALO LWAKO   #1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GOD’S MER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wami, aluzyalo lwako,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ona ooyu moyo wangu’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otama kulinduwe,</a:t>
            </a:r>
            <a:br>
              <a:rPr sz="4400"/>
            </a:b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Gwisya zyoonse zibi zy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ata kale ndakabi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sindalizi cibi c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uzibyaabi ndalifwi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Gwisya zyoonse zibi zy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ebo uli Siluzyal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yoonse wandikombele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kandiita, ndakakaak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Gwisya zyoonse zibi zy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akamumvwa Mufutu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watola cibi c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ndiboozye ndakata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Gwisya zyoonse zibi zy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Jesu ndeza kulindu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zyo zyoonse zibi zy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ditambula aluzyal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Gwisya zyoonse zibi zyan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04:10:03Z</dcterms:created>
  <dc:creator>Jonah</dc:creator>
  <dc:description/>
  <dc:language>en-US</dc:language>
  <cp:lastModifiedBy>Jonah</cp:lastModifiedBy>
  <dcterms:modified xsi:type="dcterms:W3CDTF">2015-01-01T20:47:19Z</dcterms:modified>
  <cp:revision>6</cp:revision>
  <dc:subject/>
  <dc:title>MWAMI ALUZYALO LWAKO    #: 163  GOD’S MERCY  Mwami, aluzyalo lwako, Bona ooyu moyo wangu’ Ndakotama kulinduwe Gwisya zyoonse zibi zyangu</dc:title>
</cp:coreProperties>
</file>