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7F42-37B5-44C9-BC90-9714D524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A20E-72A4-453C-86B5-7EF5FD78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E835-A20F-424E-A6D1-F07EA1F9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DAF8-F527-49F6-9CC2-0939F615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4C48-2A75-4A68-A93F-DC638008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DC70-C5A5-4469-B31C-D4980BD0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76BE-1A6E-4770-9553-B7ED0F64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542A-89DB-4F9B-B65F-CC137303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570B-2C53-40BA-BADC-91822531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8745-22FE-4803-A9E1-CA7CE24D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3222-C0DC-4DB6-87E6-7FA124F8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9321-7F05-473B-A56A-21AEC2CC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5FBA-A5D1-4903-8631-94B9B09D8AC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9640" y="2492280"/>
            <a:ext cx="7777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muteelele nobazibi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aya makani akusinizy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kani alatuyoosya toonse, Mulacita but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33. MULACITA BUTI?</a:t>
            </a:r>
            <a:br>
              <a:rPr sz="4000"/>
            </a:b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Tune: Careless soul, what the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ulacita buti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ulacita but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aa ilamana insi eyi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ulacita but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mbele kwako ulajan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penzi oonse alavul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lilo taumani lyoonse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lacita but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ulacita buti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ulacita but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aa ilamana insi eyi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ulacita but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iindi cimwi cilikumbele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zyana kwako kulaman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wiina ingoma kumulil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lacita but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ulacita buti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ulacita but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aa ilamana insi eyi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ulacita but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li mulilo tokoojan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ukoko mamambe takukwe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, pe, pe, pe mulalila buy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lacita but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ulacita buti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ulacita but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aa ilamana insi eyi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ulacita but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0:58:44Z</dcterms:created>
  <dc:creator>Jonah</dc:creator>
  <dc:description/>
  <dc:language>en-US</dc:language>
  <cp:lastModifiedBy>Jonah</cp:lastModifiedBy>
  <dcterms:modified xsi:type="dcterms:W3CDTF">2015-02-14T14:31:06Z</dcterms:modified>
  <cp:revision>2</cp:revision>
  <dc:subject/>
  <dc:title>133. MULACITA BUTI? Tune: Careless soul, what then?</dc:title>
</cp:coreProperties>
</file>